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4FB-6224-4479-873E-DF55A4C4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A35-F2A1-470B-899B-6F6E0FB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8B3-2BD8-4A56-A848-C731C72A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76D-7AB2-4FA6-AF8D-B5B1BF7E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98E-0BAB-4561-8708-6F59366C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C0F-25C1-4E47-A5D1-B9BE9A0B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569-6911-451F-9E4C-4B0A74F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D37-4C18-4A29-BE72-B9C75819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9A4-A4FA-4557-86E1-0BCE6496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9B2-EC63-42E4-B2FC-B2AD4EB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84C-FE90-4C09-B06D-95E5372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1BD-7C4F-48A7-AB97-03E4933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DDDB-2A91-4621-9B81-F1BB7BBC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5720" y="4648320"/>
            <a:ext cx="1752480" cy="1828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تفسير لجزء تبارك و عم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04920" y="-2066760"/>
            <a:ext cx="243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6240" y="335880"/>
            <a:ext cx="451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1219320"/>
          <a:ext cx="2101680" cy="3276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492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0440" y="1139040"/>
            <a:ext cx="44632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أ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               للإمام ابن رج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     ط.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شرح العقيدة الواسطية         للشيخ صالح الفوز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للشوكاني(صفحة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تحقيق: العبي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                    ط. مؤسسة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 من صفح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1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8360" y="411336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ج/ إذا لم تستشكل فاعلم أنك لم تفهم ما قرأته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846000"/>
          <a:ext cx="8229600" cy="418644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بيل النجاة من شؤم المعصية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فات على الطريق    محمد السيد نو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وسائل دفع الغربة                الشيخ سلمان العودة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قوق الوالدين      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هاجر إلى ربه    ابن الق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خسر العالم بانحطاط المسلمين    الندو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عادة بين الوهم والحقيقة د. ناصر العم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لية طالب العلم   بكر أبو زي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رائد ( دروس في التربية )       مازن الفري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ثمن الجنة   عبد الملك القاس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خشوع في الصلاة   ابن رج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بل أن يهدم الأقصى    عبد العزيز مصطف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شباب الصحابة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تفعل في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دقائق القاسم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نازع والتوازن                   محمد عقيل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يقك إلى القلوب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يل النفسية   نهاد در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قالات في التربية           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يقاظ الهمة السعيدان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ليب العلمانيين في تغريب المرأة     الب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ضية تحرير المرأة                  محمد قط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زمن عند العلماء           أبو غدّ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تى لا تكون كلاً   عوض القر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ثنا الفكري في ميزان الشرع والعقل   الغزال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وابل الصيب لابن الق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اليب النبوية للمنج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صول في التفكير الموضوعي د. عبد الكريم بك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هكذا علمتني الحياة ل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بية الزوجية لمحمد الحمد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فاهيم خاطئة لعبد الكريم غل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مشكلات الشباب  ابن عث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رأة وكيد الأعداء عبد الله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يد الخاطر لابن الجوز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797040"/>
          <a:ext cx="8229600" cy="41558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8195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ــــرة والتاريـــخ والتراجــــ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( ج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( ب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( أ )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السيرة النبوية   تحقيق/ الشا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سيرة ابن هشام لشيخ المحققين د . عبد السلام هارو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من مصادرها الأصلية    مهد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دروس وعبر        ا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عارك الكبرى في تاريخ الإسلام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تاريخية في عصر الخلفاء   محمد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ات الرسول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  شوقي 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سير الصحابة       السحيب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رّدة               محمد أحمد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طل الأبطال     عبد الرحمن عزا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الشمائل المحمدية الألباني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زهة الفضلاء محمد عق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صحابة  محمد الباشا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ة بدر الكبرى  باشميل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انب من سيرة الشيخ ابن باز ل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لسلة بطولات إسلامية  محمد نص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روائع القصص في السيرة      الخرا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واصم من القواصم              ابن العرب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هد من حياة الصديق   محمد المجذ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لامح الانقلاب الإسلامي  عماد الد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ادة فتوح الشام ومصر       محمود خط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تابعين  محمد الباش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صة بعث جيش أسامة      فضل إله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يعيد التاريخ نفسه ؟             محمد العب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علامنا البدراني + البرا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في رياض العلماء           الأشق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إسلام في الشام             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زاد المعاد لمحمد بن عبد الوه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عاد لابن قيم الجو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بداية والنهاية لابن كث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971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c3300"/>
                </a:solidFill>
                <a:latin typeface="Arial"/>
                <a:cs typeface="Monotype Koufi"/>
              </a:rPr>
              <a:t>مع تمنياتنا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67080" y="878400"/>
            <a:ext cx="390384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ب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أربع أحاديث بشرحها أسبوعيا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ستة أبواب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49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كتاب الصلا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أسبوعياً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               صفي الرحمن ا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724280"/>
            <a:ext cx="160020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أربعون النوو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 استيعاب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نصف الكتاب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6960" y="404208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ج/ إذا لم تستشكل فاعلم أنك لم تفهم ما قرأت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1295280"/>
          <a:ext cx="2209680" cy="32767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990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0" y="380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5334120"/>
            <a:ext cx="24382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الأربعون النووية :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كتاب التوحيد : 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:   ( استيعاب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:   ( الكتاب كاملاً )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-1647720"/>
            <a:ext cx="2438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31880" y="1527120"/>
          <a:ext cx="2101680" cy="3654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سب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28600" y="38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752040"/>
            <a:ext cx="378144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حديثين بشرحهم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ثلاثة أبواب من الكتاب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كتاب الطهار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في سيرة النبي المختار   ل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2787120"/>
            <a:ext cx="3717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تنبيهــــــــــــــــــــات مهمـــــــــــــــــــــ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ا تتجاوز الحد الأسبوعي إلا بعد تكرار المقروء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س بالضرورة قراءة المواد الأربع جميعها يوم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أثناء القراءة ركز على الملاحظات التالي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أ / خطط على المسائل المهمة في نفس الكتاب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ب/ بادر بالسؤال عما يشكل من مسائل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ج/ إذا لم تستشكل فاعلم أنك لم تفهم ما قرأت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دارسة المقروء مع آخر  له أهميته في ضبط ما تقرأ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اقب نيتك في طلب العلم : بأن تكون لله وحده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/ "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عمل بما علم ورّثه الله علم ما لا يعلم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360" y="47304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  ( ج )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49120" y="303840"/>
            <a:ext cx="357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c3300"/>
                </a:solidFill>
                <a:latin typeface="Arial"/>
                <a:cs typeface="PT Bold Heading"/>
              </a:rPr>
              <a:t>برنامج مقترح للقراءة المثم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858960"/>
          <a:ext cx="8534160" cy="5541840"/>
        </p:xfrm>
        <a:graphic>
          <a:graphicData uri="http://schemas.openxmlformats.org/drawingml/2006/table">
            <a:tbl>
              <a:tblPr/>
              <a:tblGrid>
                <a:gridCol w="3159000"/>
                <a:gridCol w="3076560"/>
                <a:gridCol w="229860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الـــــــــقرآن وعــــــــلوم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لسع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بن كثير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جزء " عم " من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بيان في آداب حملة القرآن     النوو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ي ظلال القرآن لسيد قط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فتوى في احترام القرآن  جمع/أبو لو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ورة الحجرات دراسة تحليلية     العم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دخل لدراسة القرآن              أبو شهب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الس ووقفات مع كتاب الله  الرمّان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لاق حملة القرآن             الآجر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سرائيليات والموضوعات في كتب التفس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 القرآن وحملته   عبيد الشعب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اتيح للتعامل مع القرآن   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ويبات في فهم بعض الآيات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أملات في كتاب الله جـ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العوايش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ضائل القرآن       ابن كث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إبراهيم        محمد جميل غازي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فظ القرآن الكريم   محمد الدوي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يف تحفظ القرآن      عبد الرب نواب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يسير اللطيف المنان في خلاصة تفسير القرآ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ذهبية    عبد الرحمن عبد الخال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صحيح المسند من أسباب النزول     الواد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قدمة التفسير ج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ن فتاوى ابن تيمي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الفاتحة 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راسات في علوم القران        الروم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ات أحكامها ومصدرها    شعبان محم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شفيع           عمر باشمي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للمتخصص)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ابن عثيم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صول في 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للمتخصص) 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لطيا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الفاتحة والعلق للشيخ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هود للشيخ الشنقيط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ر في تناسب الآيات والسور للبقا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71600"/>
          <a:ext cx="8229600" cy="5991120"/>
        </p:xfrm>
        <a:graphic>
          <a:graphicData uri="http://schemas.openxmlformats.org/drawingml/2006/table">
            <a:tbl>
              <a:tblPr/>
              <a:tblGrid>
                <a:gridCol w="3046320"/>
                <a:gridCol w="2967120"/>
                <a:gridCol w="2216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ــنــــــــة وعلـــــــومـ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بواب من رياض الصالحين   النو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رياض الصالحين مع شرحه نزهة المتق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مختصر صحيح مسلم            المنذ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حصن المسلم ( للحفظ )   القحطان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تيسير العلام شرح عمدة الأحك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توضيح الأحكام                  البس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اقتباس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ختيار الأولى شرح "اختصام الملأ الأعلى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رح 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حديثاً من صحيح مسلم     العبا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اللهم بعلمك الغيب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هجة قلوب الأبرار  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سباب تعدد الروايات في الحديث   شرف القضا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(من سلك طريقا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حجة في سير الدلجة          ابن رجب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صية الصغرى                     ابن تيم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بر والصلة " من صحيح مسل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وفوائد من الأربعين النووية   ناظ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امع العلوم والحكم        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جبريل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ضوابط مهمة لحسن فهم السنة    أبو أن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ءة أبواب من " المنتقى "    الجد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جر الكبير على العمل اليسير محمد خ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 يتبع الميت ثلاث 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عوة  إلى السنة في تطبيق السنة      الرحيل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طبة الحاجة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كم الجديرة بالإذاعة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تي يعلم بها صدق الخبر  تحقيق الغن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نن مجهولة      عبد الإله بن سلم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كربة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جامع الصغير للشيخ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كلم الطيب       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ما ذئبان جائعان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خفا ومزيل الإلباس للعجلو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ربعون النووية      بشرح ابن دقي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صطلح الحديث(للمتخصص)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يسير مصطلح الحديث (للمتخصص)   الطح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280" y="-1420920"/>
            <a:ext cx="183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407880"/>
          <a:ext cx="8102520" cy="5992920"/>
        </p:xfrm>
        <a:graphic>
          <a:graphicData uri="http://schemas.openxmlformats.org/drawingml/2006/table">
            <a:tbl>
              <a:tblPr/>
              <a:tblGrid>
                <a:gridCol w="2521080"/>
                <a:gridCol w="2685960"/>
                <a:gridCol w="28954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 لعقيــد ة والـمذاهـــب المعاصــرة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جامع الفريد     عبد الله الجار الل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ول السديد على كتاب التوح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تيسير العزيز الحميد         ش/ سل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أصول الثلاثة 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لمعة الاعتقاد  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الواسطية         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صحيحة وما يضادها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جيز في عقيدة السلف  عبد الله الأث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انطلاقة الكبرى              المصر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يامة الصغرى             الأشق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في البدع والسنن              الع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وضيح والبيان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بودية           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رشاد إلى صحيح الاعتقاد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سماء الله الحسنى          القحط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علام السنة المنشورة            الحكم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صراط المستقيم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قاية الإنسان من الجن والشيطان   وح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لاء والعداء                   الطري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شراط الساعة                          الوا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 رسائل في العقيدة "      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تشبه بقوم فهو منهم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مثلى    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لامات النبوة                    الكل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الشرك الأصغر   العبد اللط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أثره في قبول الأعمال      الطيا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إسلامية      محمد زين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حيدة "       عبدالعزيز المك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غلو في الدين في حياة المسلمين المعاصرة  اللويح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يمان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يقة الخلاف بين الشيعة وجمهور المسل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    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خلاص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شبهات بشرحه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بيان شرح نوا قض الإسلام         العلو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تقوى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صر شعب الأيمان            القزوي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انية                        محمد الشر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صول الإيما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جز في الأديان والمذاهب   العقل+ القف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سوعة الميسرة  في الأديان والمذاهب        الندو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يرة والقاديانية والبهائية والبابية والوجودية والشيوعية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وحيد الأسماء والصفات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يمان بالقضاء والقدر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555480"/>
          <a:ext cx="8381880" cy="515952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5146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قــــه وأصـولــــه وقواعـــد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أ )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ختصر في شرح أركان الإسل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ثلاث رسائل في الصلاة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راءة من الملخص الفقهي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شرح الممتع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ة وضوء النب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الشو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فتاوى الشيخ العثيمين   جمع أشرف عبد المقص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" فتاوى إسلامية "          جمع/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لاة الفجر وكيف نحافظ عليها   المنصو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صفة صلاة النبي               الأل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مقاصد الشريعة الإسلامية           الرمّ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داب المشي إلى الصلاة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سباب الخلاف بين العلماء  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الحج والعمرة  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،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همية صلاة الجماعة       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اظرات الفقهية    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لاة الجماعة                        السدل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صال الفطرة       جمع/ أم عبد الرح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الصلاة وحكم تاركها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فع الملام عن الأئمة الأعلام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مجلة الدعوة  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ل المبين في أخطاء المصلين   مشه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حكام اليمين              خالد المشيق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)سؤالاً في أحكام الجنائز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ج عملي للمتفقهين      ع. قار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زاد المعاد     جزء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ام آداب وأحكام             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باحث في النية للعلي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فة المودود ل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قاء الباب المفتوح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جة النبي صلى الله عليه وسلم للألبان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ضايا اللهو والترفيه بين الحاجة النفسية والضوابط الشرعية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هج لمريد العمرة والحج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صائص الجمعة من زاد المعاد ‏‏‏‏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ماع أشرطة بلوغ المرام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في المسح على الخفي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لاث صلوات مهجورة  (يقرأ إلى ص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رات مجلس المجمع الفقهي   دورة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مخالفات الطهارة والصلاة  السدح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آن المشهود   المرزو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رسالة في القواعد الفقهية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سمية المولود بكر أبو ز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جر السفهاء عن تتبع رخص الفقه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الواضح في أصول الفقه (للمتخصص)  الأشقر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هج السالكين لابن 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قه السنة لسيد ساب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فقهية لابن 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754200"/>
          <a:ext cx="8229600" cy="5341680"/>
        </p:xfrm>
        <a:graphic>
          <a:graphicData uri="http://schemas.openxmlformats.org/drawingml/2006/table">
            <a:tbl>
              <a:tblPr/>
              <a:tblGrid>
                <a:gridCol w="2819520"/>
                <a:gridCol w="2971800"/>
                <a:gridCol w="2438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ـــــــــة والأد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واوين د . عبد الرحمن العشماوي الشعر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اريخ الأدب للزي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كامل في اللغة والأدب للمبر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قصص من التاريخ "    الحمص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 إسلاماه باكثير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قه اللغة وأسرار العربية    أبي منصور الثعال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دالة السماء      محمود خط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رة شجاع   باكثير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تجاهات الوطنية في الأدب     محمد حس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ئدون إلى الله    محمد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زمن القادم                     القا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ات من أدب العرب             الندو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أين الله الحمص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ئر الأحمر باكثير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حسان بن ثابت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صص من الواقع   أبي القعقاع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وات الرهيبة             الصاغر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فوات النادرة                  محمد الصا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اهد الصغير  حسن نائل جانا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قور القوقاز   ترجمة/ محمد حرب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ع البحرين                نصيف الياز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كايات        إيمان السب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جرة من أفغانستان  مرال معرو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سين القبيح وتقبيح الحسن          الثعالب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غار الإخلاص  ضناوي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رض البطولات   الحمص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متنبي شرح العكبري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لف لاتضيع ضناو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ذكريات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ار وإيمان   ضناو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قف طيار  القوز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دب العرب الهاشمي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ديث الشيخ   سليمان العبي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جال من التاريخ 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ذاهب الأدب الغرب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واهر الأدب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دائع الفوائد لابن القي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ملكة البيان للقر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أساسية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أبي الطيب شرح البرقو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 الصحاح للراز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بن قاسم على الآجرو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شرح ابن عقيل لألفية ابن مال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لاحظات مهمة في قراءة الكتب :-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مراعاة القدرة الذهنية ومدى استيعاب القارئ ومعرفة الخلفية التي لديه حين قراءته الكتاب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الاهتمام بالقراءة النقدية الواعية ومناقشة أهل الاختصاص فيما تشكل قراءته .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همية التنويع في القراءة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617400"/>
          <a:ext cx="8229600" cy="5646960"/>
        </p:xfrm>
        <a:graphic>
          <a:graphicData uri="http://schemas.openxmlformats.org/drawingml/2006/table">
            <a:tbl>
              <a:tblPr/>
              <a:tblGrid>
                <a:gridCol w="2819520"/>
                <a:gridCol w="3047760"/>
                <a:gridCol w="23623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ربيــــة  والفـكـــر والدعـــ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شخصية الإسلامية         الأشق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(أصوله ومصادره)  محمد الخرع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وابط الشرعية لموقف المسلم من الفتن    آل الشي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بشائر  بنصرة الإسلام           الدوي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والعلماء                  الجزائ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وك الاجتماعي              حسن أيو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خلاق الداعية                الشيخ سلمان العو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صفات الداعية الرفق واللين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حفة العراقية في أمراض القلوب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قت عمار أو دمار  الهزاع + المط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دد حياتك                     الغزا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هذيب مدارج السالكين 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وق دعت إليها الفطرة ابن عثيمين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ضرورة شرعية               د. ناصر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قه في الدين                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شحيذ الهمم إلى العلم            الشي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دعوة إلى الله     همام سع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حات من صبر العلماء            أبو غ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دعوة إلى الله وأخلاق الدعاة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علم العمل    الخطيب البغدا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غاثة اللهفان من مصايد الشيطان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سائل المفيدة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لق المسلم محمد الغزالي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حوار الندوة العالمية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نصيحة لإصلاح البيوت المنجد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ب عبدالله  الخاط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هوم تجديد الدين           بسطامي سع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سائل الثبات على دين الله        المنج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لدروس المهمة (ابن باز)  أحمد الطوي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قعنا المعاصر                     محمد قطب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ائس الحلة في التآخي والخلة      الهزا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تعامل مع العلماء     اللويحق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كر الإسلامي  المعاصر         غازي التوب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ة البدء والاستمرار            العتي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رص على هداية الناس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ذهبية  الإسلامية          محسن عبد الحم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لى الإسلام من جديد             الن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نفاق آثاره ومفاهيمه        الدوس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ذور الانحراف في الفكر الإسلامي    جم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ذة المناجاة                         الجم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جامعة للقراءة النافعة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سلام بين العلماء والحكام      عبد العزيز البد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بات       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زكية النفوس   جمع/ أحمد فر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صوننا مهددة من داخلها      محمد حس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02:57Z</dcterms:created>
  <dc:creator>Home</dc:creator>
  <dc:description/>
  <dc:language>en-US</dc:language>
  <cp:lastModifiedBy>Home</cp:lastModifiedBy>
  <dcterms:modified xsi:type="dcterms:W3CDTF">2005-09-06T22:49:04Z</dcterms:modified>
  <cp:revision>3</cp:revision>
  <dc:subject/>
  <dc:title>الشريحة 1</dc:title>
</cp:coreProperties>
</file>