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E43-435A-4E36-92DC-E1D47FC3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B2C-5121-47ED-B442-E713A99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A88-BD34-40BA-A5E3-87DE5DC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22F-046F-4D89-BD75-3D1852DC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AF0B-A5DD-41E8-97B8-EDF0BF31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125B-2008-488E-9C20-0724A08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43E-05E2-4A72-BBB0-671BC08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552-3DAC-48D8-8439-864C18B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394-528C-4E4B-853C-81CD314D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3C4-D104-4170-A17C-3A31471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BEA-4092-4B03-8F86-69D553A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580-EDAB-447F-8C3C-5FC1179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D3DC-E249-47DC-8D9D-2602E72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EE28-9B4C-4928-8CF0-66524045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28D6-D5BA-4C50-B1D2-0DD46B3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DB4-7DE0-4657-936B-E2096D2E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146D-909B-45C0-8322-185841A1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43E-9CF5-421A-A8CC-B83BA8D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6AB-DC2B-4944-AEDB-1928824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738-11A1-4D41-92E8-B2EA4CD9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259-7B94-4139-8E6A-3A94645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F7F-81E1-4746-8214-61D4C28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DF1-AEFB-4F35-AA94-FB4F1FE8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329-1835-4E44-BF3B-A9E8218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AC7-24D4-4A67-BA7D-E90621925625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4C4D-1848-4343-BF12-0DA816760AEF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&quot;Moonrise, Lake Powell, Utah&quot; © M.Webb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124080" y="5105520"/>
            <a:ext cx="3353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أحمد العسا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4952880" cy="243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المشكلات الإدارية </a:t>
            </a:r>
            <a:br>
              <a:rPr sz="5400"/>
            </a:br>
            <a:r>
              <a:rPr b="1" i="1" lang="ar-SA" sz="60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وكيفية</a:t>
            </a: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ea typeface="Arabic Transparent"/>
              </a:rPr>
              <a:t> علاجها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&quot;Thunderstorms over Santa Catalina Mountains, Tucson, Arizona&quot; © Kent Wood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304920"/>
            <a:ext cx="8534160" cy="19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cc"/>
                </a:solidFill>
                <a:latin typeface="Times New Roman"/>
              </a:rPr>
              <a:t>أساليب التعامل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&quot;Blue Bonnets, Texas Hill Country,  Marble Falls, Texas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34120" y="5276880"/>
            <a:ext cx="3809880" cy="305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99"/>
                </a:solidFill>
                <a:latin typeface="Times New Roman"/>
              </a:rPr>
              <a:t>أسباب عدم مواجهة المشكل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" descr="&quot;Sunset, Joshua Tree National Park, California&quot; © Kevin Powe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495320" y="838080"/>
            <a:ext cx="44197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خطاء في تحديد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364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71800" y="3123720"/>
            <a:ext cx="35812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6000"/>
          </a:bodyPr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سلوب 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كبنر-تريجو للتحديد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9" name="" descr="&quot;Dreaming of a White Christm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14600" y="1981080"/>
            <a:ext cx="236232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rmAutofit fontScale="66000"/>
          </a:bodyPr>
          <a:p>
            <a:pPr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800000"/>
                </a:solidFill>
                <a:latin typeface="Albertus Extra Bold"/>
                <a:cs typeface="Simplified Arabic"/>
              </a:rPr>
              <a:t>أدوات مهمة في حـــ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Golden Peaks of Rundle Mountain, Banff National Park, Albert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4952880"/>
            <a:ext cx="556272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a1d00"/>
            </a:outerShdw>
          </a:effectLst>
        </p:spPr>
        <p:txBody>
          <a:bodyPr anchor="ctr">
            <a:normAutofit fontScale="8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44f"/>
                </a:solidFill>
                <a:latin typeface="Times New Roman"/>
              </a:rPr>
              <a:t>من الذي يدعى لحل المشاكل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&quot;Japanese Bridge &amp; Pond, Charles Neal, 1998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9144000" cy="1801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edc7da"/>
                </a:solidFill>
                <a:latin typeface="Albertus Extra Bold"/>
                <a:cs typeface="Simplified Arabic"/>
              </a:rPr>
              <a:t>سلبيات وإيجابيات الحل الجماعي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Boulders, Stoddard, Alice Ken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4920" y="304920"/>
            <a:ext cx="59436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200" spc="-1" strike="noStrike">
                <a:solidFill>
                  <a:srgbClr val="c08e00"/>
                </a:solidFill>
                <a:latin typeface="Albertus Extra Bold"/>
                <a:cs typeface="Simplified Arabic"/>
              </a:rPr>
              <a:t>أسباب الفشل في ح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&quot;Stepping Stones, Yonkers, New York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90360" y="5257800"/>
            <a:ext cx="74674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5000"/>
          </a:bodyPr>
          <a:p>
            <a:pPr marL="257040"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أهمية المعلومات لح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&quot;Silver Falls, Oregon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971800" y="1828800"/>
            <a:ext cx="41148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أدوات تحليل المشكلات.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&quot;Canadian Rockies, Banff National Park, Alberta&quot; © Larry Car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477120" y="-360"/>
            <a:ext cx="266688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t">
            <a:noAutofit/>
          </a:bodyPr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مك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زم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ـمـدة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960" y="66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752480"/>
            <a:ext cx="3429000" cy="53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562b00"/>
                </a:solidFill>
                <a:latin typeface="Albertus Extra Bold"/>
                <a:cs typeface="Simplified Arabic"/>
              </a:rPr>
              <a:t>خطوات تحلي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Cayo Levantado, Dominican Republic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943600" y="457200"/>
            <a:ext cx="27907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000" spc="-1" strike="noStrike">
                <a:solidFill>
                  <a:srgbClr val="d8d6b0"/>
                </a:solidFill>
                <a:latin typeface="Albertus Extra Bold"/>
                <a:cs typeface="Simplified Arabic"/>
              </a:rPr>
              <a:t>هل وجود المشكلات يعد مشكلة؟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&quot;Waning Rays of L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42568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cc66"/>
                </a:solidFill>
                <a:uFillTx/>
                <a:latin typeface="Times New Roman"/>
              </a:rPr>
              <a:t>تساؤلات ؟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و آخر كتاب قرأته في الإدارة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ي آخر دورة إدارية حضرتها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ذا تتوقع أن تسمع هذا اليوم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This picture was taken from the same spot at the previous one (ie the motu north of Le Meridien) but looks north instead of south. Note the table &amp; umbrella sitting out in about 2 feet of water off in the distance - I believe this is where guests at the Bora Bora Lagoon Resort who book a private motu dinner are taken for a wonderful exotic meal (I saw a posting about it once at the www.tahiti-explorer.com website). If you exercise the &quot;View Full Size&quot; option you can see the BBQ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2438280"/>
            <a:ext cx="495288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ماهو الهدف من طرحه 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تعريف ال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أنواع المشاك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5409720" y="4190760"/>
            <a:ext cx="35053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عناصر الموضوع</a:t>
            </a: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cc"/>
            </a:outerShdw>
          </a:effectLst>
        </p:spPr>
        <p:txBody>
          <a:bodyPr anchor="ctr">
            <a:normAutofit fontScale="67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444466"/>
                </a:solidFill>
                <a:latin typeface="Times New Roman"/>
              </a:rPr>
              <a:t>مقدمات مهمة عن المشكلات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33526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المشكلة ..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فرصة ثمينة 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Autumn Splendo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562720" y="160020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&quot;Sunrise on Sanibel Beach, Florida&quot; © Mike Bri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rmAutofit fontScale="83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85ae"/>
                </a:solidFill>
                <a:latin typeface="Times New Roman"/>
              </a:rPr>
              <a:t>حال الناس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&quot;Guam in the Evening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943600" y="228240"/>
            <a:ext cx="32004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b549"/>
                </a:solidFill>
                <a:latin typeface="Times New Roman"/>
              </a:rPr>
              <a:t>أسئلة مهمة عند تحديد المشكلات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28:20Z</dcterms:modified>
  <cp:revision>170</cp:revision>
  <dc:subject/>
  <dc:title>المشكلات الإدارية وكيفية علاجها ؟</dc:title>
</cp:coreProperties>
</file>