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7.jpeg" ContentType="image/jpeg"/>
  <Override PartName="/ppt/media/image31.wmf" ContentType="image/x-wmf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85B8-A49B-4932-B88C-2BB862B9F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6BB6-6B8B-41A7-967B-BDF880F9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B656-7097-492D-AA12-FBB5FD311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F5B7-9B8E-4326-92DC-BBD89F943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CAC9-8705-4E75-BA84-156EBBA65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ECA5-7D57-4392-A4A0-8C209A90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6597-8990-4EA4-AF03-DE2EA046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C6E3-F0EC-44D5-BDA1-DB3958DD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116E-9CCB-4B86-A5B9-91A8A1BE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EAE9-0EA2-4CAB-8BAD-320A5D71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C0883-3DC7-491F-8DA4-2A1D338F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F593-14B2-436D-85B7-47F2CF83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A7CC6-8E0E-44E4-B549-7A524712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5D76-2C76-497D-9630-65166D65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B120-DDD1-4993-9EDB-7191893D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56EA-E376-4BFE-A6CA-CEAD7A586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9473-8511-4663-AE2A-B23FD65AF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C2E8-E602-4660-B392-641138CD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9E3F-4088-4508-9285-20E52892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2A4E-6F21-4A3D-BDA5-70A7CC9F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AE46-344E-4E0A-9DE5-36A50F5C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EC26-39F5-4F88-B0CC-0BC73547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B6C7-FCDC-4D39-85C2-770484E9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0CA2-BFB0-4D8A-AAAA-C92BD8D9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2F5F-9875-4528-8555-E50A4B59C1FA}" type="slidenum">
              <a:rPr b="0" lang="ar-SA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3D3E-93F4-44C2-A00A-52D763F6F9EB}" type="slidenum">
              <a:rPr b="0" lang="ar-SA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frumps.com/html/minnetonka_hats.html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frumps.com/html/minnetonka_hats.html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www.frumps.com/html/minnetonka_hats.html" TargetMode="External"/><Relationship Id="rId6" Type="http://schemas.openxmlformats.org/officeDocument/2006/relationships/image" Target="../media/image16.jpeg"/><Relationship Id="rId7" Type="http://schemas.openxmlformats.org/officeDocument/2006/relationships/hyperlink" Target="http://www.frumps.com/html/minnetonka_hats.html" TargetMode="External"/><Relationship Id="rId8" Type="http://schemas.openxmlformats.org/officeDocument/2006/relationships/image" Target="../media/image16.jpeg"/><Relationship Id="rId9" Type="http://schemas.openxmlformats.org/officeDocument/2006/relationships/hyperlink" Target="http://www.frumps.com/html/minnetonka_hats.html" TargetMode="External"/><Relationship Id="rId10" Type="http://schemas.openxmlformats.org/officeDocument/2006/relationships/image" Target="../media/image16.jpeg"/><Relationship Id="rId11" Type="http://schemas.openxmlformats.org/officeDocument/2006/relationships/hyperlink" Target="http://www.frumps.com/html/minnetonka_hats.html" TargetMode="External"/><Relationship Id="rId12" Type="http://schemas.openxmlformats.org/officeDocument/2006/relationships/image" Target="../media/image16.jpeg"/><Relationship Id="rId1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3059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66"/>
                </a:solidFill>
                <a:latin typeface="Times New Roman"/>
                <a:ea typeface="Simplified Arabic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2" name="" descr="&quot;Tokyo, Japan at Night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ccff"/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900" spc="-1" strike="noStrike">
                <a:solidFill>
                  <a:srgbClr val="000066"/>
                </a:solidFill>
                <a:latin typeface="Times New Roman"/>
                <a:cs typeface="MCS SILVER"/>
              </a:rPr>
              <a:t>أسلوب كبنر- تريجو لتحديد وتعريف المشكلات :</a:t>
            </a:r>
            <a:endParaRPr b="0" lang="en-US" sz="4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09680" y="3200400"/>
            <a:ext cx="6705720" cy="335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99cc"/>
                </a:solidFill>
                <a:latin typeface="Times New Roman"/>
                <a:cs typeface="MCS SILVER"/>
              </a:rPr>
              <a:t>ماهي المشكلة ؟</a:t>
            </a:r>
            <a:br>
              <a:rPr sz="4400"/>
            </a:br>
            <a:r>
              <a:rPr b="1" lang="ar-SA" sz="4400" spc="-1" strike="noStrike">
                <a:solidFill>
                  <a:srgbClr val="ff99cc"/>
                </a:solidFill>
                <a:latin typeface="Times New Roman"/>
                <a:cs typeface="MCS SILVER"/>
              </a:rPr>
              <a:t>أين المشكلة ؟</a:t>
            </a:r>
            <a:br>
              <a:rPr sz="4400"/>
            </a:br>
            <a:r>
              <a:rPr b="1" lang="ar-SA" sz="4400" spc="-1" strike="noStrike">
                <a:solidFill>
                  <a:srgbClr val="ff99cc"/>
                </a:solidFill>
                <a:latin typeface="Times New Roman"/>
                <a:cs typeface="MCS SILVER"/>
              </a:rPr>
              <a:t>ماهي السمات المميزة للمشكلة ؟</a:t>
            </a:r>
            <a:br>
              <a:rPr sz="4400"/>
            </a:br>
            <a:r>
              <a:rPr b="1" lang="ar-SA" sz="4400" spc="-1" strike="noStrike">
                <a:solidFill>
                  <a:srgbClr val="ff99cc"/>
                </a:solidFill>
                <a:latin typeface="Times New Roman"/>
                <a:cs typeface="MCS SILVER"/>
              </a:rPr>
              <a:t>ماذا ومن تعني المشكلة ؟</a:t>
            </a:r>
            <a:br>
              <a:rPr sz="4400"/>
            </a:br>
            <a:r>
              <a:rPr b="1" lang="ar-SA" sz="4400" spc="-1" strike="noStrike">
                <a:solidFill>
                  <a:srgbClr val="ff99cc"/>
                </a:solidFill>
                <a:latin typeface="Times New Roman"/>
                <a:cs typeface="MCS SILVER"/>
              </a:rPr>
              <a:t>متى حدثت / تحدث المشكلة ؟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1" name="" descr="&quot;Douglas Family Preserve, Santa Barbara, California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895120" y="5029200"/>
            <a:ext cx="403884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txBody>
          <a:bodyPr anchor="t">
            <a:normAutofit fontScale="87000"/>
          </a:bodyPr>
          <a:p>
            <a:pPr marL="298440" indent="0" algn="ctr" rtl="1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MCS SILVER"/>
              </a:rPr>
              <a:t> اختيار أفضل الحلول المقترحة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4" name="" descr="&quot;Keukenhof, Holland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86400" y="3123720"/>
            <a:ext cx="3657600" cy="129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txBody>
          <a:bodyPr anchor="t">
            <a:normAutofit fontScale="69000"/>
          </a:bodyPr>
          <a:p>
            <a:pPr marL="236520" indent="0" algn="ctr" rtl="1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a5f"/>
                </a:solidFill>
                <a:latin typeface="Times New Roman"/>
                <a:ea typeface="MCS SILVER"/>
              </a:rPr>
              <a:t> مشاركة عدة مستويات إدارية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7" name="" descr="&quot;Practice Makes Perfect, Africa&quot; © Roma Sto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228240" y="609120"/>
            <a:ext cx="2514600" cy="3124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3e2c7"/>
            </a:outerShdw>
          </a:effectLst>
        </p:spPr>
        <p:txBody>
          <a:bodyPr anchor="t">
            <a:normAutofit fontScale="79000"/>
          </a:bodyPr>
          <a:p>
            <a:pPr marL="270720" indent="0" algn="ctr" rtl="1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Times New Roman"/>
                <a:cs typeface="MCS SILVER"/>
              </a:rPr>
              <a:t>إغفال تسجيل الأفكار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5867280" y="0"/>
            <a:ext cx="3276720" cy="2362320"/>
          </a:xfrm>
          <a:prstGeom prst="rect">
            <a:avLst/>
          </a:prstGeom>
          <a:gradFill rotWithShape="0">
            <a:gsLst>
              <a:gs pos="0">
                <a:srgbClr val="00050a"/>
              </a:gs>
              <a:gs pos="100000">
                <a:srgbClr val="003366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99ccff"/>
                </a:solidFill>
                <a:latin typeface="Times New Roman"/>
              </a:rPr>
              <a:t>السلبيّـــات :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1" name="" descr="&quot;The Domino Effect&quot; © ImageSta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47960" y="2743200"/>
            <a:ext cx="4190760" cy="914400"/>
          </a:xfrm>
          <a:prstGeom prst="rect">
            <a:avLst/>
          </a:prstGeom>
          <a:solidFill>
            <a:srgbClr val="ffdab5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160b00"/>
            </a:outerShdw>
          </a:effectLst>
        </p:spPr>
        <p:txBody>
          <a:bodyPr anchor="t">
            <a:normAutofit fontScale="56000"/>
          </a:bodyPr>
          <a:p>
            <a:pPr marL="191880" indent="0" algn="ctr" rtl="1">
              <a:lnSpc>
                <a:spcPct val="90000"/>
              </a:lnSpc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Times New Roman"/>
                <a:cs typeface="MCS SILVER"/>
              </a:rPr>
              <a:t>التنافس المنفر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6" name="" descr="&quot;Bridge on the River Rhone,  Avignon, Vaucluse, France&quot; © ImageSta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1523880" y="838080"/>
            <a:ext cx="6248520" cy="205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dfdf"/>
                </a:solidFill>
                <a:latin typeface="Times New Roman"/>
                <a:cs typeface="MCS SILVER"/>
              </a:rPr>
              <a:t>المواكبة والمجاراة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dfdf"/>
                </a:solidFill>
                <a:latin typeface="Times New Roman"/>
                <a:ea typeface="MCS SILVER"/>
              </a:rPr>
              <a:t> الافتقار إلى التوجيه الموضوعي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0" name="" descr="&quot;Do You Have the Time? St. Stephen's Tower, London, England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62120" y="609480"/>
            <a:ext cx="7958160" cy="914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66"/>
            </a:outerShdw>
          </a:effectLst>
        </p:spPr>
        <p:txBody>
          <a:bodyPr anchor="t">
            <a:normAutofit fontScale="70000"/>
          </a:bodyPr>
          <a:p>
            <a:pPr marL="240120" indent="0" algn="ctr" rtl="1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ccecff"/>
                </a:solidFill>
                <a:latin typeface="Times New Roman"/>
                <a:ea typeface="MCS SILVER"/>
              </a:rPr>
              <a:t> المقيدات الزما نية والمكانية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4114800"/>
            <a:ext cx="3048120" cy="274320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8120" y="4114800"/>
            <a:ext cx="3047760" cy="27432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114800"/>
            <a:ext cx="3048120" cy="27432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3200400" cy="266688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0" y="2666880"/>
            <a:ext cx="9144000" cy="1447920"/>
          </a:xfrm>
          <a:prstGeom prst="rect">
            <a:avLst/>
          </a:prstGeom>
          <a:solidFill>
            <a:srgbClr val="ffd175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Times New Roman"/>
                <a:ea typeface="MCS SILVER"/>
              </a:rPr>
              <a:t> سيطرة طريقة تفكير الرئيس 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Times New Roman"/>
                <a:ea typeface="MCS SILVER"/>
              </a:rPr>
              <a:t>(القبعات الست) 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8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172200" y="0"/>
            <a:ext cx="2971800" cy="26668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200400" y="0"/>
            <a:ext cx="304812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62" name="" descr="&quot;The Vivash Fire, New Mexico&quot; © Michael Clark Photograph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-1711800" y="5638680"/>
            <a:ext cx="125388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d5eaff"/>
                </a:solidFill>
                <a:latin typeface="Times New Roman"/>
                <a:cs typeface="MCS SILVER"/>
              </a:rPr>
              <a:t>عدم اتباع المنهجية في تحديد وحل المشكلات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029200" y="1981080"/>
            <a:ext cx="387360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MCS SILVER"/>
              </a:rPr>
              <a:t>أسباب الفشل في حل المشكلات :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3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&quot;Life Springs Forth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380880" y="4648320"/>
            <a:ext cx="8534520" cy="157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cc0000"/>
                </a:solidFill>
                <a:latin typeface="Times New Roman"/>
                <a:cs typeface="MCS SILVER"/>
              </a:rPr>
              <a:t>وضع المشكلة خارج نطاقها الحقيقي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69" name="" descr="&quot;A Ray of Light, VilleFranche, France&quot; © Don Pauls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0" y="5181480"/>
            <a:ext cx="91440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anchor="t">
            <a:normAutofit fontScale="70000"/>
          </a:bodyPr>
          <a:p>
            <a:pPr marL="24012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59acff"/>
                </a:solidFill>
                <a:latin typeface="Times New Roman"/>
                <a:cs typeface="MCS SILVER"/>
              </a:rPr>
              <a:t>نقص المعلومات أو التحليل السيئ للمشكلة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7" name="" descr="&quot;Redwoods and Sequoias&quot; © Robert Marien / Roma Sto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419360" y="5562720"/>
            <a:ext cx="47242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 fontScale="69000"/>
          </a:bodyPr>
          <a:p>
            <a:pPr marL="23652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MCS SILVER"/>
              </a:rPr>
              <a:t>ما الذي يبقى ثابتاً   ؟ وما الذي يتغير ؟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MCS SILVER"/>
              </a:rPr>
              <a:t>هل المشكلة تكبر أم تصغر ؟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3652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003366"/>
                </a:solidFill>
                <a:latin typeface="Times New Roman"/>
                <a:cs typeface="MCS SILVER"/>
              </a:rPr>
              <a:t>ماهو الشيء المميز عند تغير حجمها ؟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3652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72" name="" descr="&quot;Above the Clouds, Mt. Shasta, California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151920" y="4723920"/>
            <a:ext cx="8991720" cy="213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t">
            <a:normAutofit fontScale="72000"/>
          </a:bodyPr>
          <a:p>
            <a:pPr marL="246960" indent="-246960" algn="r" rtl="1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MCS SILVER"/>
              </a:rPr>
              <a:t>استخدام نوع واحد من التفكير (طريقة القبعات الست) 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246960" indent="-246960" algn="r" rtl="1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MCS SILVER"/>
              </a:rPr>
              <a:t>غياب أو تحجيم مشاركة الأطراف المعنية 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246960" indent="-246960" algn="r" rtl="1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MCS SILVER"/>
              </a:rPr>
              <a:t>الخوف من الفشل ومن التجديد ومن تبادل الأفكار 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73789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ccff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MCS SILVER"/>
              </a:rPr>
              <a:t>أسباب الفشل في حل المشكلات :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76" name="" descr="&quot;Wet Daisies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5486400" y="609480"/>
            <a:ext cx="32004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MCS SILVER"/>
              </a:rPr>
              <a:t>مقاومة التغيير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0" name="" descr="&quot;Sand Dunes, Central Africa&quot; © Roma Sto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101080" y="5411880"/>
            <a:ext cx="1839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05520" y="2514600"/>
            <a:ext cx="3759120" cy="250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3f4ff"/>
                </a:solidFill>
                <a:latin typeface="Times New Roman"/>
                <a:cs typeface="MCS SILVER"/>
              </a:rPr>
              <a:t>التوقف عن التنفيذ أو ترك المتابعة والتقويم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3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&quot;La Digue Islands, Seychelles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0" y="5105520"/>
            <a:ext cx="91440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3e2c7"/>
            </a:outerShdw>
          </a:effectLst>
        </p:spPr>
        <p:txBody>
          <a:bodyPr anchor="t">
            <a:normAutofit fontScale="76000"/>
          </a:bodyPr>
          <a:p>
            <a:pPr marL="26064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9aa"/>
                </a:solidFill>
                <a:latin typeface="Times New Roman"/>
                <a:ea typeface="MCS SILVER"/>
              </a:rPr>
              <a:t> المعلومات مهمة لحل المشاكل إذ المعلومة قوة 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26064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9aa"/>
                </a:solidFill>
                <a:latin typeface="Times New Roman"/>
                <a:ea typeface="MCS SILVER"/>
              </a:rPr>
              <a:t> لا بد أن يكون للمعلومة صلة بالموضوع 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title"/>
          </p:nvPr>
        </p:nvSpPr>
        <p:spPr>
          <a:xfrm>
            <a:off x="2286000" y="228600"/>
            <a:ext cx="6858000" cy="533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3e2c7"/>
                </a:solidFill>
                <a:latin typeface="Times New Roman"/>
                <a:cs typeface="MCS SILVER"/>
              </a:rPr>
              <a:t>أهمية المعلومات لحل المشكلات :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8" name="" descr="&quot;On Time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520" y="5562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66"/>
            </a:outerShdw>
          </a:effectLst>
        </p:spPr>
        <p:txBody>
          <a:bodyPr anchor="t">
            <a:normAutofit fontScale="68000"/>
          </a:bodyPr>
          <a:p>
            <a:pPr marL="233280" indent="0" algn="ctr" rtl="1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ccecff"/>
                </a:solidFill>
                <a:latin typeface="Times New Roman"/>
                <a:ea typeface="MCS SILVER"/>
              </a:rPr>
              <a:t> توقيت الحصول على المعلومة مهم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split dir="out" orient="horz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3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3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&quot;Candle Glow&quot; © Samuel Veta Photograph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809640" y="4876560"/>
            <a:ext cx="7958160" cy="1981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 fontScale="89000"/>
          </a:bodyPr>
          <a:p>
            <a:pPr marL="3052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Times New Roman"/>
                <a:cs typeface="MCS SILVER"/>
              </a:rPr>
              <a:t>يجب أن تكون المعلومات دقيقة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052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Times New Roman"/>
                <a:ea typeface="MCS SILVER"/>
              </a:rPr>
              <a:t> شرعية طريقة الحصول على المعلومة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052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Times New Roman"/>
                <a:ea typeface="MCS SILVER"/>
              </a:rPr>
              <a:t> لابد من التعامل بكفاءة مع المعلومة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835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7111"/>
                </a:solidFill>
                <a:latin typeface="Times New Roman"/>
                <a:cs typeface="MCS SILVER"/>
              </a:rPr>
              <a:t>أهمية المعلومات لحل المشكلات</a:t>
            </a:r>
            <a:r>
              <a:rPr b="1" lang="ar-SA" sz="5400" spc="-1" strike="noStrike">
                <a:solidFill>
                  <a:srgbClr val="ff7111"/>
                </a:solidFill>
                <a:latin typeface="Times New Roman"/>
                <a:ea typeface="MCS SILVER"/>
              </a:rPr>
              <a:t> </a:t>
            </a:r>
            <a:r>
              <a:rPr b="1" lang="ar-SA" sz="5400" spc="-1" strike="noStrike">
                <a:solidFill>
                  <a:srgbClr val="ff7111"/>
                </a:solidFill>
                <a:latin typeface="Times New Roman"/>
                <a:ea typeface="MCS SILVER"/>
              </a:rPr>
              <a:t>: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&quot;Brilliant Display, Interfirst Plaza, Houston, Texas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33760" y="228240"/>
            <a:ext cx="38098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100" spc="-1" strike="noStrike">
                <a:solidFill>
                  <a:srgbClr val="ffcc66"/>
                </a:solidFill>
                <a:latin typeface="Times New Roman"/>
                <a:cs typeface="MCS SILVER"/>
              </a:rPr>
              <a:t>أنواع المعلومات: </a:t>
            </a:r>
            <a:endParaRPr b="0" lang="en-US" sz="5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4800600"/>
            <a:ext cx="815328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cc66"/>
            </a:outerShdw>
          </a:effectLst>
        </p:spPr>
        <p:txBody>
          <a:bodyPr anchor="t">
            <a:normAutofit fontScale="73000"/>
          </a:bodyPr>
          <a:p>
            <a:pPr marL="250200" indent="0" algn="ct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البيانات الاولية والثانوية والتاريخية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97" name="" descr="&quot;North Cascades in Autumn, Mount Baker, Washington&quot; © Sharon Gerig / Roma Sto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666520" y="228600"/>
            <a:ext cx="533412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ff99"/>
            </a:outerShdw>
          </a:effectLst>
        </p:spPr>
        <p:txBody>
          <a:bodyPr anchor="t">
            <a:normAutofit fontScale="69000"/>
          </a:bodyPr>
          <a:p>
            <a:pPr marL="23652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800000"/>
                </a:solidFill>
                <a:latin typeface="Times New Roman"/>
              </a:rPr>
              <a:t> البيانات الوصفية والكمية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01" name="" descr="&quot;Voyager 1 Image of Saturn&quot; © Courtesy of NAS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457200" y="2362320"/>
            <a:ext cx="43434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</a:rPr>
              <a:t>التنبؤات والتوقعات واستشراف المستقبل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37856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ffffff"/>
                </a:solidFill>
                <a:latin typeface="Times New Roman"/>
                <a:cs typeface="MCS SILVER"/>
              </a:rPr>
              <a:t>أدوات تحليل المعلومات :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1640" y="3276360"/>
            <a:ext cx="4148280" cy="32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t">
            <a:normAutofit fontScale="80000"/>
          </a:bodyPr>
          <a:p>
            <a:pPr marL="274320" indent="-274320" algn="r" rtl="1">
              <a:spcBef>
                <a:spcPts val="1349"/>
              </a:spcBef>
              <a:buClr>
                <a:srgbClr val="99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993366"/>
                </a:solidFill>
                <a:latin typeface="Times New Roman"/>
                <a:ea typeface="MCS SILVER"/>
              </a:rPr>
              <a:t> سمكة إشيكاوا 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  <a:p>
            <a:pPr marL="274320" indent="-274320" algn="r" rtl="1">
              <a:spcBef>
                <a:spcPts val="1349"/>
              </a:spcBef>
              <a:buClr>
                <a:srgbClr val="99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993366"/>
                </a:solidFill>
                <a:latin typeface="Times New Roman"/>
                <a:ea typeface="MCS SILVER"/>
              </a:rPr>
              <a:t> خرائط الزمن 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  <a:p>
            <a:pPr marL="274320" indent="-274320" algn="r" rtl="1">
              <a:spcBef>
                <a:spcPts val="1349"/>
              </a:spcBef>
              <a:buClr>
                <a:srgbClr val="99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993366"/>
                </a:solidFill>
                <a:latin typeface="Times New Roman"/>
                <a:ea typeface="MCS SILVER"/>
              </a:rPr>
              <a:t> الاستبيانات 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  <a:p>
            <a:pPr marL="274320" indent="0" algn="r" rtl="1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&quot;Winter Haven, Germany&quot; © Allsport Photography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900" spc="-1" strike="noStrike">
                <a:solidFill>
                  <a:srgbClr val="ffffff"/>
                </a:solidFill>
                <a:latin typeface="Times New Roman"/>
                <a:cs typeface="MCS SILVER"/>
              </a:rPr>
              <a:t>أسلوب كبنر- تريجو لتحديد وتعريف المشكلات :</a:t>
            </a:r>
            <a:endParaRPr b="0" lang="en-US" sz="4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09640" y="2438280"/>
            <a:ext cx="795816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44"/>
                </a:solidFill>
                <a:latin typeface="Times New Roman"/>
                <a:cs typeface="MCS SILVER"/>
              </a:rPr>
              <a:t>ماهو الوضع الطبيعي ؟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44"/>
                </a:solidFill>
                <a:latin typeface="Times New Roman"/>
                <a:cs typeface="MCS SILVER"/>
              </a:rPr>
              <a:t>أين الوضع الطبيعي ؟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44"/>
                </a:solidFill>
                <a:latin typeface="Times New Roman"/>
                <a:cs typeface="MCS SILVER"/>
              </a:rPr>
              <a:t>ماهي السمات المميزة للوضع الطبيعي ؟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44"/>
                </a:solidFill>
                <a:latin typeface="Times New Roman"/>
                <a:cs typeface="MCS SILVER"/>
              </a:rPr>
              <a:t>ماذا ومن لا تعنيه المشكلة ؟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44"/>
                </a:solidFill>
                <a:latin typeface="Times New Roman"/>
                <a:cs typeface="MCS SILVER"/>
              </a:rPr>
              <a:t>متى لا تحدث ؟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44"/>
                </a:solidFill>
                <a:latin typeface="Times New Roman"/>
                <a:cs typeface="MCS SILVER"/>
              </a:rPr>
              <a:t>وما الذي يختلف ؟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1066680" y="3581280"/>
            <a:ext cx="1752840" cy="1371600"/>
          </a:xfrm>
          <a:prstGeom prst="rect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254a"/>
                </a:solidFill>
                <a:latin typeface="Times New Roman"/>
              </a:rPr>
              <a:t>اسم</a:t>
            </a:r>
            <a:r>
              <a:rPr b="1" lang="ar-SA" sz="4400" spc="-1" strike="noStrike">
                <a:solidFill>
                  <a:srgbClr val="00254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254a"/>
                </a:solidFill>
                <a:latin typeface="Times New Roman"/>
              </a:rPr>
              <a:t>المشكلة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19160" y="4343400"/>
            <a:ext cx="5562360" cy="0"/>
          </a:xfrm>
          <a:prstGeom prst="line">
            <a:avLst/>
          </a:prstGeom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4038480" y="3352680"/>
            <a:ext cx="1143000" cy="990720"/>
          </a:xfrm>
          <a:prstGeom prst="line">
            <a:avLst/>
          </a:prstGeom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038480" y="4343400"/>
            <a:ext cx="1219320" cy="762120"/>
          </a:xfrm>
          <a:prstGeom prst="line">
            <a:avLst/>
          </a:prstGeom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6019920" y="3352680"/>
            <a:ext cx="1143000" cy="990720"/>
          </a:xfrm>
          <a:prstGeom prst="line">
            <a:avLst/>
          </a:prstGeom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19920" y="4343400"/>
            <a:ext cx="1143000" cy="762120"/>
          </a:xfrm>
          <a:prstGeom prst="line">
            <a:avLst/>
          </a:prstGeom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title"/>
          </p:nvPr>
        </p:nvSpPr>
        <p:spPr>
          <a:xfrm>
            <a:off x="761760" y="609120"/>
            <a:ext cx="798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8800" spc="-1" strike="noStrike">
                <a:solidFill>
                  <a:srgbClr val="00254a"/>
                </a:solidFill>
                <a:latin typeface="Times New Roman"/>
                <a:cs typeface="MCS SILVER"/>
              </a:rPr>
              <a:t>سمكة إشيكاوا</a:t>
            </a:r>
            <a:endParaRPr b="0" lang="en-US" sz="8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cover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7" name=""/>
          <p:cNvGraphicFramePr/>
          <p:nvPr/>
        </p:nvGraphicFramePr>
        <p:xfrm>
          <a:off x="1905120" y="2514600"/>
          <a:ext cx="5814720" cy="388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2514600"/>
                    <a:ext cx="5814720" cy="38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8120" y="228600"/>
            <a:ext cx="31240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99"/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ccffff"/>
                </a:solidFill>
                <a:latin typeface="Times New Roman"/>
                <a:cs typeface="MCS SILVER"/>
              </a:rPr>
              <a:t>خرائط الزمن 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676520" y="2666880"/>
            <a:ext cx="3808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9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7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266160" y="6400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1418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894560" y="6400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1417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598920" y="6400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1416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286000" y="6400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141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cover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228240" y="18288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99"/>
                </a:solidFill>
                <a:latin typeface="Times New Roman"/>
              </a:rPr>
              <a:t>                                                                     </a:t>
            </a:r>
            <a:r>
              <a:rPr b="1" lang="ar-SA" sz="3200" spc="-1" strike="noStrike">
                <a:solidFill>
                  <a:srgbClr val="ff6699"/>
                </a:solidFill>
                <a:latin typeface="Times New Roman"/>
              </a:rPr>
              <a:t>الإنجاز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66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6699"/>
                </a:solidFill>
                <a:latin typeface="Times New Roman"/>
              </a:rPr>
              <a:t>الزمن 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1752480" y="6553080"/>
            <a:ext cx="6400800" cy="0"/>
          </a:xfrm>
          <a:prstGeom prst="line">
            <a:avLst/>
          </a:prstGeom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752480" y="2895480"/>
            <a:ext cx="6019920" cy="3657600"/>
          </a:xfrm>
          <a:custGeom>
            <a:avLst/>
            <a:gdLst/>
            <a:ahLst/>
            <a:rect l="l" t="t" r="r" b="b"/>
            <a:pathLst>
              <a:path w="2448" h="1968">
                <a:moveTo>
                  <a:pt x="0" y="1968"/>
                </a:moveTo>
                <a:cubicBezTo>
                  <a:pt x="64" y="1828"/>
                  <a:pt x="128" y="1688"/>
                  <a:pt x="192" y="1584"/>
                </a:cubicBezTo>
                <a:cubicBezTo>
                  <a:pt x="256" y="1480"/>
                  <a:pt x="328" y="1432"/>
                  <a:pt x="384" y="1344"/>
                </a:cubicBezTo>
                <a:cubicBezTo>
                  <a:pt x="440" y="1256"/>
                  <a:pt x="472" y="1176"/>
                  <a:pt x="528" y="1056"/>
                </a:cubicBezTo>
                <a:cubicBezTo>
                  <a:pt x="584" y="936"/>
                  <a:pt x="616" y="784"/>
                  <a:pt x="720" y="624"/>
                </a:cubicBezTo>
                <a:cubicBezTo>
                  <a:pt x="824" y="464"/>
                  <a:pt x="1016" y="192"/>
                  <a:pt x="1152" y="96"/>
                </a:cubicBezTo>
                <a:cubicBezTo>
                  <a:pt x="1288" y="0"/>
                  <a:pt x="1408" y="40"/>
                  <a:pt x="1536" y="48"/>
                </a:cubicBezTo>
                <a:cubicBezTo>
                  <a:pt x="1664" y="56"/>
                  <a:pt x="1832" y="88"/>
                  <a:pt x="1920" y="144"/>
                </a:cubicBezTo>
                <a:cubicBezTo>
                  <a:pt x="2008" y="200"/>
                  <a:pt x="2016" y="304"/>
                  <a:pt x="2064" y="384"/>
                </a:cubicBezTo>
                <a:cubicBezTo>
                  <a:pt x="2112" y="464"/>
                  <a:pt x="2160" y="560"/>
                  <a:pt x="2208" y="624"/>
                </a:cubicBezTo>
                <a:cubicBezTo>
                  <a:pt x="2256" y="688"/>
                  <a:pt x="2320" y="736"/>
                  <a:pt x="2352" y="768"/>
                </a:cubicBezTo>
                <a:cubicBezTo>
                  <a:pt x="2384" y="800"/>
                  <a:pt x="2384" y="800"/>
                  <a:pt x="2400" y="816"/>
                </a:cubicBezTo>
                <a:cubicBezTo>
                  <a:pt x="2416" y="832"/>
                  <a:pt x="2432" y="856"/>
                  <a:pt x="2448" y="864"/>
                </a:cubicBezTo>
              </a:path>
            </a:pathLst>
          </a:custGeom>
          <a:noFill/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1752480" y="2285640"/>
            <a:ext cx="0" cy="4267080"/>
          </a:xfrm>
          <a:prstGeom prst="line">
            <a:avLst/>
          </a:prstGeom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6699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003366"/>
                </a:solidFill>
                <a:latin typeface="Times New Roman"/>
                <a:cs typeface="MCS SILVER"/>
              </a:rPr>
              <a:t>خرائط الزمن :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32" name="" descr="&quot;Sharp Edges&quot; © Rob Perr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80880" y="5486400"/>
            <a:ext cx="8568000" cy="914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8000"/>
            </a:outerShdw>
          </a:effectLst>
        </p:spPr>
        <p:txBody>
          <a:bodyPr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66"/>
                </a:solidFill>
                <a:latin typeface="Times New Roman"/>
                <a:ea typeface="MCS SILVER"/>
              </a:rPr>
              <a:t> 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28600" y="4938840"/>
            <a:ext cx="8697960" cy="24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66"/>
                </a:solidFill>
                <a:latin typeface="Times New Roman"/>
                <a:cs typeface="MCS SILVER"/>
              </a:rPr>
              <a:t>تعريف المشكلة وتمييزها.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66"/>
                </a:solidFill>
                <a:latin typeface="Times New Roman"/>
                <a:cs typeface="MCS SILVER"/>
              </a:rPr>
              <a:t>تحليل المشكلة : أسبابها ؛ ..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1080" y="15228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66"/>
                </a:solidFill>
                <a:latin typeface="Times New Roman"/>
              </a:rPr>
              <a:t>خطوات تحليل المشكلة: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37" name="" descr="&quot;Awesome Spectacle&quot; © ImageSta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4572000" y="152280"/>
            <a:ext cx="457200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800" spc="-1" strike="noStrike">
                <a:solidFill>
                  <a:srgbClr val="ffffff"/>
                </a:solidFill>
                <a:latin typeface="Times New Roman"/>
                <a:ea typeface="MCS SILVER"/>
              </a:rPr>
              <a:t> إعداد قائمة بالحلول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-1096200" y="228600"/>
            <a:ext cx="73389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800" spc="-1" strike="noStrike">
                <a:solidFill>
                  <a:srgbClr val="ffffff"/>
                </a:solidFill>
                <a:latin typeface="Times New Roman"/>
                <a:ea typeface="MCS SILVER"/>
              </a:rPr>
              <a:t>(طريقة العصف الذهني)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3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3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42" name="" descr="&quot;Radiating Ripples&quot; © Hermann Eisenbeiss / Photo Researche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153280" cy="76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66"/>
            </a:outerShdw>
          </a:effectLst>
        </p:spPr>
        <p:txBody>
          <a:bodyPr anchor="t">
            <a:normAutofit fontScale="85000"/>
          </a:bodyPr>
          <a:p>
            <a:pPr marL="291600" indent="0" algn="ctr" rtl="1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imes New Roman"/>
                <a:ea typeface="MCS SILVER"/>
              </a:rPr>
              <a:t> تقييم الحلول (حسب المعايير)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45" name="" descr="&quot;Country Road through Cades Cove, Great Smoky Mountains, Tennessee&quot; © David Davi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2819160" y="3047760"/>
            <a:ext cx="5181480" cy="380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99"/>
            </a:outerShdw>
          </a:effectLst>
        </p:spPr>
        <p:txBody>
          <a:bodyPr anchor="t">
            <a:normAutofit fontScale="94000"/>
          </a:bodyPr>
          <a:p>
            <a:pPr marL="322200" indent="0" algn="ctr" rtl="1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00"/>
                </a:solidFill>
                <a:latin typeface="Times New Roman"/>
                <a:ea typeface="MCS SILVER"/>
              </a:rPr>
              <a:t>             اتخاذ  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0" algn="ctr" rtl="1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00"/>
                </a:solidFill>
                <a:latin typeface="Times New Roman"/>
                <a:ea typeface="MCS SILVER"/>
              </a:rPr>
              <a:t>               القرار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0" algn="ctr" rtl="1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00"/>
                </a:solidFill>
                <a:latin typeface="Times New Roman"/>
                <a:ea typeface="MCS SILVER"/>
              </a:rPr>
              <a:t>               ووضـــع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0" algn="ctr" rtl="1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00"/>
                </a:solidFill>
                <a:latin typeface="Times New Roman"/>
                <a:ea typeface="MCS SILVER"/>
              </a:rPr>
              <a:t>       خـــــطــــــة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0" algn="ctr" rtl="1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00"/>
                </a:solidFill>
                <a:latin typeface="Times New Roman"/>
                <a:ea typeface="MCS SILVER"/>
              </a:rPr>
              <a:t> للتــنــــفـــيـــذ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371600" y="838080"/>
            <a:ext cx="7378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6000" spc="-1" strike="noStrike">
                <a:solidFill>
                  <a:srgbClr val="003366"/>
                </a:solidFill>
                <a:latin typeface="Times New Roman"/>
                <a:cs typeface="MCS SILVER"/>
              </a:rPr>
              <a:t>خطوات تحليل المشكلات :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52" name="" descr="&quot;South Pacific Sunset, Pohnpei&quot; © Sea to Sky Production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038480" y="457200"/>
            <a:ext cx="436716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99"/>
                </a:solidFill>
                <a:latin typeface="Times New Roman"/>
                <a:ea typeface="MCS SILVER"/>
              </a:rPr>
              <a:t> المتابعة والتقييم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762120" y="3580920"/>
            <a:ext cx="7958160" cy="2667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99ff"/>
            </a:outerShdw>
          </a:effectLst>
        </p:spPr>
        <p:txBody>
          <a:bodyPr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00"/>
                </a:solidFill>
                <a:latin typeface="Times New Roman"/>
                <a:cs typeface="MCS SILVER"/>
              </a:rPr>
              <a:t>هل وجود المشكلات ..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00"/>
                </a:solidFill>
                <a:latin typeface="Times New Roman"/>
                <a:cs typeface="MCS SILVER"/>
              </a:rPr>
              <a:t>يعد مؤشراً سلبياً 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00"/>
                </a:solidFill>
                <a:latin typeface="Times New Roman"/>
                <a:cs typeface="MCS SILVER"/>
              </a:rPr>
              <a:t>على العمل ؟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6000" spc="-1" strike="noStrike">
                <a:solidFill>
                  <a:srgbClr val="ff6699"/>
                </a:solidFill>
                <a:latin typeface="Times New Roman"/>
                <a:cs typeface="MCS SILVER"/>
              </a:rPr>
              <a:t>هل وجود المشكلات يعد مشكلة ؟!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58" name="" descr="&quot;Afternoon Offshores, Hermosa Beach, California&quot; © Ron Romanos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4560" y="3733560"/>
            <a:ext cx="5181480" cy="2971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66"/>
            </a:outerShdw>
          </a:effectLst>
        </p:spPr>
        <p:txBody>
          <a:bodyPr anchor="t">
            <a:normAutofit fontScale="80000"/>
          </a:bodyPr>
          <a:p>
            <a:pPr marL="27432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MCS SILVER"/>
              </a:rPr>
              <a:t>مجرد وجود المشكلات أمر طبيعي ويدل على وجود عمل له خاصية التفاعل والاستمرارية والتجديد 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16200" y="52560"/>
            <a:ext cx="43426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9999"/>
                </a:solidFill>
                <a:latin typeface="Times New Roman"/>
                <a:cs typeface="MCS SILVER"/>
              </a:rPr>
              <a:t>الجواب</a:t>
            </a:r>
            <a:r>
              <a:rPr b="1" lang="ar-SA" sz="8000" spc="-1" strike="noStrike">
                <a:solidFill>
                  <a:srgbClr val="009999"/>
                </a:solidFill>
                <a:latin typeface="Times New Roman"/>
                <a:ea typeface="MCS SILVER"/>
              </a:rPr>
              <a:t> </a:t>
            </a:r>
            <a:r>
              <a:rPr b="1" lang="ar-SA" sz="8000" spc="-1" strike="noStrike">
                <a:solidFill>
                  <a:srgbClr val="009999"/>
                </a:solidFill>
                <a:latin typeface="Times New Roman"/>
                <a:ea typeface="MCS SILVER"/>
              </a:rPr>
              <a:t>: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5" name="" descr="&quot;West Highlands, Scotland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228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cc"/>
            </a:outerShdw>
          </a:effectLst>
        </p:spPr>
        <p:txBody>
          <a:bodyPr anchor="t">
            <a:norm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402000"/>
                </a:solidFill>
                <a:latin typeface="Times New Roman"/>
                <a:ea typeface="MCS SILVER"/>
              </a:rPr>
              <a:t> أين توضع هذه الأدوات ؟؟؟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402000"/>
                </a:solidFill>
                <a:latin typeface="Times New Roman"/>
                <a:ea typeface="MCS SILVER"/>
              </a:rPr>
              <a:t> الأدوات هي :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14400" y="4572000"/>
            <a:ext cx="772956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MCS SILVER"/>
              </a:rPr>
              <a:t>من؟ ماذا؟ أين؟ متى؟ كم؟ كيف؟ لماذا؟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837720" y="380520"/>
            <a:ext cx="7378920" cy="1554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MCS SILVER"/>
              </a:rPr>
              <a:t>أدوات مهمة في حل المشكلات :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" dur="3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&quot;Paper Birch, White Mountains, New Hampshire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0" y="5607000"/>
            <a:ext cx="9144000" cy="1831680"/>
          </a:xfrm>
          <a:prstGeom prst="rect">
            <a:avLst/>
          </a:prstGeom>
          <a:solidFill>
            <a:srgbClr val="e3e2c7"/>
          </a:solidFill>
          <a:ln w="9360">
            <a:solidFill>
              <a:srgbClr val="336600"/>
            </a:solidFill>
            <a:miter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336600"/>
                </a:solidFill>
                <a:latin typeface="Albertus Extra Bold"/>
                <a:cs typeface="Simplified Arabic"/>
              </a:rPr>
              <a:t>إذا كانت المشكلات كثيرة بدرجة لافتة للنظر فهذا يدل على وجود خلل في جهة ما .</a:t>
            </a:r>
            <a:endParaRPr b="0" lang="en-US" sz="3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405040" y="52560"/>
            <a:ext cx="4342680" cy="13129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cccc99"/>
                </a:solidFill>
                <a:latin typeface="Times New Roman"/>
                <a:cs typeface="MCS SILVER"/>
              </a:rPr>
              <a:t>الجواب</a:t>
            </a:r>
            <a:r>
              <a:rPr b="1" lang="ar-SA" sz="8000" spc="-1" strike="noStrike">
                <a:solidFill>
                  <a:srgbClr val="cccc99"/>
                </a:solidFill>
                <a:latin typeface="Times New Roman"/>
                <a:ea typeface="MCS SILVER"/>
              </a:rPr>
              <a:t> </a:t>
            </a:r>
            <a:r>
              <a:rPr b="1" lang="ar-SA" sz="8000" spc="-1" strike="noStrike">
                <a:solidFill>
                  <a:srgbClr val="cccc99"/>
                </a:solidFill>
                <a:latin typeface="Times New Roman"/>
                <a:ea typeface="MCS SILVER"/>
              </a:rPr>
              <a:t>: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&quot;La Jolla, Torrey Pines, San Diego, California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152280" y="3733920"/>
            <a:ext cx="4800600" cy="425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0a500"/>
                </a:solidFill>
                <a:latin typeface="Times New Roman"/>
                <a:cs typeface="MCS SILVER"/>
              </a:rPr>
              <a:t>انتفاء المشاكل كلية يدل على انتفاء أصل العمل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0a500"/>
                </a:solidFill>
                <a:latin typeface="Times New Roman"/>
                <a:cs typeface="MCS SILVER"/>
              </a:rPr>
              <a:t>أو ضعف المتابعة والتقييم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405040" y="52560"/>
            <a:ext cx="43426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3366"/>
                </a:solidFill>
                <a:latin typeface="Times New Roman"/>
                <a:cs typeface="MCS SILVER"/>
              </a:rPr>
              <a:t>الجواب</a:t>
            </a:r>
            <a:r>
              <a:rPr b="1" lang="ar-SA" sz="8000" spc="-1" strike="noStrike">
                <a:solidFill>
                  <a:srgbClr val="003366"/>
                </a:solidFill>
                <a:latin typeface="Times New Roman"/>
                <a:ea typeface="MCS SILVER"/>
              </a:rPr>
              <a:t> </a:t>
            </a:r>
            <a:r>
              <a:rPr b="1" lang="ar-SA" sz="8000" spc="-1" strike="noStrike">
                <a:solidFill>
                  <a:srgbClr val="003366"/>
                </a:solidFill>
                <a:latin typeface="Times New Roman"/>
                <a:ea typeface="MCS SILVER"/>
              </a:rPr>
              <a:t>: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&quot;Tahquamenon Falls, Michigan&quot; © American Stock Photograph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2819520" y="3200400"/>
            <a:ext cx="6324480" cy="3657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aeaea"/>
            </a:outerShdw>
          </a:effectLst>
        </p:spPr>
        <p:txBody>
          <a:bodyPr anchor="t">
            <a:normAutofit fontScale="88000"/>
          </a:bodyPr>
          <a:p>
            <a:pPr marL="3016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3300"/>
                </a:solidFill>
                <a:latin typeface="Times New Roman"/>
                <a:cs typeface="MCS SILVER"/>
              </a:rPr>
              <a:t>إن العلم يهتف بالعمل..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3300"/>
                </a:solidFill>
                <a:latin typeface="Times New Roman"/>
                <a:ea typeface="MCS SILVER"/>
              </a:rPr>
              <a:t> فإن أجابه..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3300"/>
                </a:solidFill>
                <a:latin typeface="Times New Roman"/>
                <a:ea typeface="MCS SILVER"/>
              </a:rPr>
              <a:t> وإلاَّ ارتحل !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title"/>
          </p:nvPr>
        </p:nvSpPr>
        <p:spPr>
          <a:xfrm>
            <a:off x="2743200" y="304560"/>
            <a:ext cx="600696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3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9600" spc="-1" strike="noStrike">
                <a:solidFill>
                  <a:srgbClr val="eaeaea"/>
                </a:solidFill>
                <a:latin typeface="Times New Roman"/>
                <a:cs typeface="MCS SILVER"/>
              </a:rPr>
              <a:t>وأخيراً</a:t>
            </a:r>
            <a:r>
              <a:rPr b="1" i="1" lang="ar-SA" sz="9600" spc="-1" strike="noStrike">
                <a:solidFill>
                  <a:srgbClr val="eaeaea"/>
                </a:solidFill>
                <a:latin typeface="Times New Roman"/>
                <a:ea typeface="MCS SILVER"/>
              </a:rPr>
              <a:t> </a:t>
            </a:r>
            <a:r>
              <a:rPr b="1" i="1" lang="ar-SA" sz="9600" spc="-1" strike="noStrike">
                <a:solidFill>
                  <a:srgbClr val="eaeaea"/>
                </a:solidFill>
                <a:latin typeface="Times New Roman"/>
                <a:ea typeface="MCS SILVER"/>
              </a:rPr>
              <a:t>:</a:t>
            </a:r>
            <a:endParaRPr b="0" lang="en-US" sz="9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wipe dir="u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" descr="&quot;Magnetic Island National Park, North Queensland, Australia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1981080" y="3276720"/>
            <a:ext cx="6934320" cy="3581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anchor="t">
            <a:normAutofit/>
          </a:bodyPr>
          <a:p>
            <a:pPr marL="343080" indent="0" algn="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MCS SILVER"/>
              </a:rPr>
              <a:t>الرياض: 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MCS SILVER"/>
              </a:rPr>
              <a:t>11643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MCS SILVER"/>
              </a:rPr>
              <a:t>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MCS SILVER"/>
              </a:rPr>
              <a:t>ص.ب:  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MCS SILVER"/>
              </a:rPr>
              <a:t>91973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hm_assaf@islamway.ne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hm_assaf@yahoo.com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6600"/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eaeaea"/>
                </a:solidFill>
                <a:latin typeface="Times New Roman"/>
                <a:cs typeface="MCS SILVER"/>
              </a:rPr>
              <a:t>العنوان البريدي :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3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3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3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3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3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3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3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3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3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3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74" name="" descr="&quot;Lanikai Beach, Oahu, Hawaii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3520" y="-360"/>
            <a:ext cx="7958160" cy="3043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99"/>
            </a:outerShdw>
          </a:effectLst>
        </p:spPr>
        <p:txBody>
          <a:bodyPr anchor="t">
            <a:normAutofit fontScale="81000"/>
          </a:bodyPr>
          <a:p>
            <a:pPr marL="277560" indent="0" algn="ctr" rtl="1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7200" spc="-1" strike="noStrike">
                <a:solidFill>
                  <a:srgbClr val="e3e2c7"/>
                </a:solidFill>
                <a:latin typeface="Times New Roman"/>
                <a:cs typeface="MCS SILVER"/>
              </a:rPr>
              <a:t>شكراً جزيلاً لحسن استماعكم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  <a:p>
            <a:pPr marL="277560" indent="0" algn="ctr" rtl="1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6000" spc="-1" strike="noStrike">
                <a:solidFill>
                  <a:srgbClr val="e3e2c7"/>
                </a:solidFill>
                <a:latin typeface="Times New Roman"/>
                <a:cs typeface="MCS SILVER"/>
              </a:rPr>
              <a:t>وشكراًً لمصمم الشرائح 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  <a:p>
            <a:pPr marL="277560" indent="0" algn="ctr" rtl="1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6000" spc="-1" strike="noStrike">
                <a:solidFill>
                  <a:srgbClr val="e3e2c7"/>
                </a:solidFill>
                <a:latin typeface="Times New Roman"/>
                <a:cs typeface="MCS SILVER"/>
              </a:rPr>
              <a:t>بمهارة   !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3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3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3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1" name="" descr="&quot;Lord Howe Island, Australia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0" y="3962160"/>
            <a:ext cx="9144000" cy="2895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2000"/>
            </a:outerShdw>
          </a:effectLst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85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ffff00"/>
                </a:solidFill>
                <a:latin typeface="Times New Roman"/>
                <a:cs typeface="MCS SILVER"/>
              </a:rPr>
              <a:t>لديه </a:t>
            </a:r>
            <a:r>
              <a:rPr b="1" lang="ar-SA" sz="3400" spc="-1" strike="noStrike" u="sng">
                <a:solidFill>
                  <a:srgbClr val="ffff00"/>
                </a:solidFill>
                <a:uFillTx/>
                <a:latin typeface="Times New Roman"/>
                <a:cs typeface="MCS SILVER"/>
              </a:rPr>
              <a:t>معلومات</a:t>
            </a:r>
            <a:r>
              <a:rPr b="1" lang="ar-SA" sz="3400" spc="-1" strike="noStrike">
                <a:solidFill>
                  <a:srgbClr val="ffff00"/>
                </a:solidFill>
                <a:latin typeface="Times New Roman"/>
                <a:ea typeface="MCS SILVER"/>
              </a:rPr>
              <a:t> عن المشكلة وأطرافها .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85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ffff00"/>
                </a:solidFill>
                <a:latin typeface="Times New Roman"/>
                <a:cs typeface="MCS SILVER"/>
              </a:rPr>
              <a:t>صاحب </a:t>
            </a:r>
            <a:r>
              <a:rPr b="1" lang="ar-SA" sz="3400" spc="-1" strike="noStrike" u="sng">
                <a:solidFill>
                  <a:srgbClr val="ffff00"/>
                </a:solidFill>
                <a:uFillTx/>
                <a:latin typeface="Times New Roman"/>
                <a:cs typeface="MCS SILVER"/>
              </a:rPr>
              <a:t>خبرة</a:t>
            </a:r>
            <a:r>
              <a:rPr b="1" lang="ar-SA" sz="3400" spc="-1" strike="noStrike">
                <a:solidFill>
                  <a:srgbClr val="ffff00"/>
                </a:solidFill>
                <a:latin typeface="Times New Roman"/>
                <a:ea typeface="MCS SILVER"/>
              </a:rPr>
              <a:t> للمشورة والرأي .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85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 u="sng">
                <a:solidFill>
                  <a:srgbClr val="ffff00"/>
                </a:solidFill>
                <a:uFillTx/>
                <a:latin typeface="Times New Roman"/>
                <a:cs typeface="MCS SILVER"/>
              </a:rPr>
              <a:t>جيد </a:t>
            </a:r>
            <a:r>
              <a:rPr b="1" lang="ar-SA" sz="3400" spc="-1" strike="noStrike">
                <a:solidFill>
                  <a:srgbClr val="ffff00"/>
                </a:solidFill>
                <a:latin typeface="Times New Roman"/>
                <a:cs typeface="MCS SILVER"/>
              </a:rPr>
              <a:t>التدريب والمهارة .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85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 u="sng">
                <a:solidFill>
                  <a:srgbClr val="ffff00"/>
                </a:solidFill>
                <a:uFillTx/>
                <a:latin typeface="Times New Roman"/>
                <a:cs typeface="MCS SILVER"/>
              </a:rPr>
              <a:t>ملتزم</a:t>
            </a:r>
            <a:r>
              <a:rPr b="1" lang="ar-SA" sz="3400" spc="-1" strike="noStrike">
                <a:solidFill>
                  <a:srgbClr val="ffff00"/>
                </a:solidFill>
                <a:latin typeface="Times New Roman"/>
                <a:ea typeface="MCS SILVER"/>
              </a:rPr>
              <a:t> بالتنفيذ .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85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ffff00"/>
                </a:solidFill>
                <a:latin typeface="Times New Roman"/>
                <a:cs typeface="MCS SILVER"/>
              </a:rPr>
              <a:t>من </a:t>
            </a:r>
            <a:r>
              <a:rPr b="1" lang="ar-SA" sz="3400" spc="-1" strike="noStrike" u="sng">
                <a:solidFill>
                  <a:srgbClr val="ffff00"/>
                </a:solidFill>
                <a:uFillTx/>
                <a:latin typeface="Times New Roman"/>
                <a:cs typeface="MCS SILVER"/>
              </a:rPr>
              <a:t>يراد</a:t>
            </a:r>
            <a:r>
              <a:rPr b="1" lang="ar-SA" sz="3400" spc="-1" strike="noStrike">
                <a:solidFill>
                  <a:srgbClr val="ffff00"/>
                </a:solidFill>
                <a:latin typeface="Times New Roman"/>
                <a:ea typeface="MCS SILVER"/>
              </a:rPr>
              <a:t> تدريبه وتهيئته .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762120" y="380520"/>
            <a:ext cx="73785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2000"/>
            </a:outerShdw>
          </a:effectLst>
        </p:spPr>
        <p:txBody>
          <a:bodyPr anchor="t">
            <a:noAutofit/>
          </a:bodyPr>
          <a:p>
            <a:pPr marL="343080" indent="0" algn="r" rtl="1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MCS SILVER"/>
              </a:rPr>
              <a:t>من الذي يدعى لحل المشاكل ؟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2590920"/>
            <a:ext cx="91440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00"/>
                </a:solidFill>
                <a:latin typeface="Times New Roman"/>
                <a:ea typeface="MCS SILVER"/>
              </a:rPr>
              <a:t> لا بد أن تتوافر فيمن يحضر جلسات مناقشة المشاكل وحلها صفة أو أكثر مما يلي :</a:t>
            </a:r>
            <a:endParaRPr b="0" lang="en-US" sz="3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3059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66"/>
                </a:solidFill>
                <a:latin typeface="Times New Roman"/>
                <a:ea typeface="Simplified Arabic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6" name="" descr="&quot;Burning Candles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1371240" y="609120"/>
            <a:ext cx="6629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2b2b2"/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3366"/>
                </a:solidFill>
                <a:latin typeface="Times New Roman"/>
              </a:rPr>
              <a:t>الحل الجماعي :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523880" y="2666880"/>
            <a:ext cx="6096240" cy="311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99cc"/>
                </a:solidFill>
                <a:latin typeface="Times New Roman"/>
                <a:cs typeface="MCS SILVER"/>
              </a:rPr>
              <a:t>إيجابيــات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99cc"/>
                </a:solidFill>
                <a:latin typeface="Times New Roman"/>
                <a:cs typeface="MCS SILVER"/>
              </a:rPr>
              <a:t>و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99cc"/>
                </a:solidFill>
                <a:latin typeface="Times New Roman"/>
                <a:cs typeface="MCS SILVER"/>
              </a:rPr>
              <a:t>سلبيــات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&quot;California Poppies, Siskiyou Mountains, near Ashland, Oregon&quot; © Scott Harding Photograph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2590560" y="2133360"/>
            <a:ext cx="6553080" cy="1600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66"/>
            </a:outerShdw>
          </a:effectLst>
        </p:spPr>
        <p:txBody>
          <a:bodyPr anchor="t">
            <a:normAutofit fontScale="91000"/>
          </a:bodyPr>
          <a:p>
            <a:pPr marL="312120"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9900"/>
                </a:solidFill>
                <a:latin typeface="Times New Roman"/>
                <a:ea typeface="MCS SILVER"/>
              </a:rPr>
              <a:t> تنوع الأفكار وتلاقحها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9900"/>
                </a:solidFill>
                <a:latin typeface="Times New Roman"/>
                <a:ea typeface="MCS SILVER"/>
              </a:rPr>
              <a:t> تعدد مصادر المعلومات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5346720" y="-360"/>
            <a:ext cx="37972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2b2b2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3366"/>
                </a:solidFill>
                <a:latin typeface="Times New Roman"/>
              </a:rPr>
              <a:t>الإيجابيّات: 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3" name="" descr="&quot;Fall Garden, Poulsbo, Washington&quot; © Don Pauls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09640" y="4800600"/>
            <a:ext cx="795816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 fontScale="77000"/>
          </a:bodyPr>
          <a:p>
            <a:pPr marL="263880" indent="0" algn="ctr" rtl="1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66"/>
                </a:solidFill>
                <a:latin typeface="Times New Roman"/>
                <a:cs typeface="MCS SILVER"/>
              </a:rPr>
              <a:t>أقل تحيزاً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263880" indent="0" algn="ctr" rtl="1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66"/>
                </a:solidFill>
                <a:latin typeface="Times New Roman"/>
                <a:ea typeface="MCS SILVER"/>
              </a:rPr>
              <a:t> فرصة للتواصل والتدريب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8" name="" descr="&quot;Pilot Mountain, North Carolina&quot; © Will &amp; Deni McIntyre / Photo Researche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04920" y="533520"/>
            <a:ext cx="3429000" cy="274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402000"/>
                </a:solidFill>
                <a:latin typeface="Times New Roman"/>
                <a:cs typeface="MCS SILVER"/>
              </a:rPr>
              <a:t>الالتزام 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402000"/>
                </a:solidFill>
                <a:latin typeface="Times New Roman"/>
                <a:cs typeface="MCS SILVER"/>
              </a:rPr>
              <a:t>العالي بالأداء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2T04:10:11Z</dcterms:created>
  <dc:creator> </dc:creator>
  <dc:description/>
  <dc:language>en-US</dc:language>
  <cp:lastModifiedBy>الرئيسي</cp:lastModifiedBy>
  <dcterms:modified xsi:type="dcterms:W3CDTF">2003-07-23T23:11:25Z</dcterms:modified>
  <cp:revision>171</cp:revision>
  <dc:subject/>
  <dc:title>المشكلات الإدارية وكيفية علاجها ؟</dc:title>
</cp:coreProperties>
</file>