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18A-C1ED-4074-AD61-96F0316B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54F-82A4-4BAA-B89D-106141A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AFD-472E-412D-BDBE-DD1DB594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CA5-9E78-475C-8971-E033D054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6B32-0BCC-43F5-8C30-92469CCE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E22-1F26-4901-8BA8-80449F2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ED3-C27F-45E9-8718-2611EA5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41F-A581-4B09-BCD1-654FB929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70C-864C-4C70-8A08-3BE6C5B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611-41C9-4821-AC4E-0E2B7AD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E2B-11F1-4C67-96C9-A9AE929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BE2-6E13-454A-B2F7-4444C9F0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63C6-87F3-4B2E-8A7B-197F7B9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AD05-76E1-4F20-A01C-A928E89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881-692F-4C98-9EB5-677DD888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6CA2-6018-4639-A7E4-9481F31F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840C-C865-480C-9012-73E95738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263-D258-4E49-A3A9-ECDF9213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73-0DE1-438F-B81B-FFCAB7C6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4BB-2175-4087-B14D-E90C8EB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CC9-CDCD-4864-97A8-94EFA74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6A7-6B80-4CB9-91F7-684161D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4B4-72D2-4D5A-8141-BA9A034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A3A-403F-40C5-AF79-8B53CFF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B6E-2735-40D3-8142-7DDA486FC82E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552-82F6-4E01-9F62-F98244492DBC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383-sh/2630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&quot;Rest Area, Tourist Route, Outback Australia&quot; © Claver Carro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بيان الطرق           للتعامل مع المشاكل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60958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المنهج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28600"/>
            <a:ext cx="7889760" cy="19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100" spc="-1" strike="noStrike">
                <a:solidFill>
                  <a:srgbClr val="cd9a67"/>
                </a:solidFill>
                <a:latin typeface="Times New Roman"/>
              </a:rPr>
              <a:t>ماهو الهدف من طرح هذا الموضوع ؟</a:t>
            </a:r>
            <a:endParaRPr b="0" lang="en-US" sz="6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Getting Focused, New York Cit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إنّ ما يزعج الناس ليس مشاكلهم، وإنّما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نظرتهم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التعايش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مع المشكلة أمر مطلوب أحياناً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قد يحسن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تجاهل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المشكلة بعد استيفاء دراستها 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St Peter's Cathedral, Vatican City, Rome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38480" y="152280"/>
            <a:ext cx="4876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فترض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تسمية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المشكلة باسم معين يتعارف عليه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1371600"/>
            <a:ext cx="47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جب أن يعلم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رئيس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بالمشكلة عن طريقك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Sunset Sail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00"/>
            </a:outerShdw>
          </a:effectLst>
        </p:spPr>
        <p:txBody>
          <a:bodyPr anchor="t">
            <a:normAutofit fontScale="87000"/>
          </a:bodyPr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أكد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ّ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ست جزءاً من المشكلة أو سبباً رئيساً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اول استنتاج شئ ثمّ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تسع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إثباته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لا تقف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باشرة إلى الح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سأل دائماً عن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المظاه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الحقائق وليس عن المشاعر والأحاسي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&quot;Wild Blue Yonde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04920" y="380880"/>
            <a:ext cx="8458200" cy="285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كثير من المشاكل لها خاصية التفاعل والاتجاه نحو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التضخم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لا يوجد سبب واحد لكل مشكلة؛ بل عدّة أسباب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متداخلة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Rainbow Reflection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743200" y="3429000"/>
            <a:ext cx="612936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2000"/>
          </a:bodyPr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فجوة الأداء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هي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Times New Roman"/>
              </a:rPr>
              <a:t>الفرق</a:t>
            </a: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بين ما ينبغي فعله 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وبين الواقع الفعلي  للعمل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3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3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3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3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" descr="&quot;Secret Spot, Seattle, Washington&quot; © James T. Ensl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0" y="2437920"/>
            <a:ext cx="45720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لا يمكن حل المشكلة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بمستوى التفكير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نفسه عندما أوجدناها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7480"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نحتاج في حل المشكلات إلى مهارات التفكير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الإبداعي والتحليل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" descr="&quot;Unlocking the Pas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0"/>
            <a:ext cx="9144000" cy="250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إذا وقعت في مشكلة 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ففكر في </a:t>
            </a:r>
            <a:r>
              <a:rPr b="1" lang="ar-SA" sz="4500" spc="-1" strike="noStrike" u="sng">
                <a:solidFill>
                  <a:srgbClr val="000000"/>
                </a:solidFill>
                <a:uFillTx/>
                <a:latin typeface="Times New Roman"/>
              </a:rPr>
              <a:t>مفاتيحها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 .. لا في قضبانها !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Santa Lucia Beach, Camaguey, Cub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495680" y="1142640"/>
            <a:ext cx="46483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لابد من فتح طرق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</a:rPr>
              <a:t>الاتصال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 بكل أشكاله: </a:t>
            </a:r>
            <a:br>
              <a:rPr sz="4800"/>
            </a:br>
            <a:br>
              <a:rPr sz="4800"/>
            </a:b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صاعد والنازل والبين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&quot;Into the Clearing, Hunting Valley, Ohio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2971800"/>
            <a:ext cx="8305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حل المشكلات ـ في الغالب ـ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منطق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وليس عاطف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809880"/>
            <a:ext cx="8229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استشراف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المستقبل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يمنع حدوث المشكلة أو يقلل من أثرها.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&quot;Great Wall, Beijing, Chin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003366"/>
                </a:solidFill>
                <a:latin typeface="Times New Roman"/>
              </a:rPr>
              <a:t>المشكلة فرصة ثمين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28440" y="25905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8128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المعنى المرادف للمشكلة عند الصينيين هو: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ff"/>
                </a:solidFill>
                <a:latin typeface="Times New Roman"/>
                <a:ea typeface="Simplified Arabic"/>
              </a:rPr>
              <a:t>  الفرص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&quot;Nurture Natur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54100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ea typeface="Simplified Arabic"/>
              </a:rPr>
              <a:t>        من حدة الذعر وهول الدهشة الناتجين عن حدوث المشاكل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5410080"/>
            <a:ext cx="1638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التخفي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9" name="" descr="&quot;The Calm Before the Storm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209680" y="2971800"/>
            <a:ext cx="6096240" cy="31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إيجاد حل جديد وعدة حلول أخرى بديلة لكل 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اكتشاف قدرات فكرية وطاقات عملي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457200"/>
            <a:ext cx="594360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&quot;Roll Tid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48765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8046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3e2c7"/>
                </a:solidFill>
                <a:latin typeface="Times New Roman"/>
                <a:cs typeface="Simplified Arabic"/>
              </a:rPr>
              <a:t>استمرارية البحث عن برامج وآليات جديدة وإبداعية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8046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1d3a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&quot;Star Trails, Saguaro National Park, Arizon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4448160" cy="31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t">
            <a:normAutofit fontScale="99000"/>
          </a:bodyPr>
          <a:p>
            <a:pPr marL="3394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تحافظ على وحدة المجموعة وتزيد من ثباتها مما يعزز روح الفريق الواحد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1" name="" descr="&quot;Dumbarton Oaks Garden, Georgetown, Washington D.C.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19720" y="5486400"/>
            <a:ext cx="4724280" cy="229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التاريخ السابق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مجموعات متشابهة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304920"/>
            <a:ext cx="60199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1c1c1c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5" name="" descr="&quot;Surreal Sundown, South Africa&quot; © James D. Wa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510516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1800"/>
            </a:outerShdw>
          </a:effectLst>
        </p:spPr>
        <p:txBody>
          <a:bodyPr anchor="t">
            <a:normAutofit fontScale="77000"/>
          </a:bodyPr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من خلال النقد الخارجي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بالرجوع لأهداف الخطة وبرامج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5943600" y="2209320"/>
            <a:ext cx="3200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b6a5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" descr="&quot;Morning Fog, Siena, Tuscany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06668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تضخيم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هوي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اعتدال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وسط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05720" y="2971800"/>
            <a:ext cx="1981080" cy="2133720"/>
          </a:xfrm>
          <a:prstGeom prst="downArrowCallout">
            <a:avLst>
              <a:gd name="adj1" fmla="val 25002"/>
              <a:gd name="adj2" fmla="val 25000"/>
              <a:gd name="adj3" fmla="val 17951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نفي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أو الغفل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4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9966"/>
                </a:solidFill>
                <a:latin typeface="Times New Roman"/>
              </a:rPr>
              <a:t>حال الناس مع المشاكل: 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990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ح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تتراكم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يأس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49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&quot;Gentle Whispers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65080" y="-360"/>
            <a:ext cx="707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460023"/>
                </a:solidFill>
                <a:latin typeface="Times New Roman"/>
              </a:rPr>
              <a:t>أسئلة مهمة عند تحديد المشكلات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51055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مدى حدّة المشكلة وصعوبتها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ذا عن تكرار حدو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 مدى أهميّة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2" name="" descr="&quot;Autumn Light, Canad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27432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لا تفعل شيئاً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آثا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راقبة الوضع فق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مشكل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51920" y="228240"/>
            <a:ext cx="54104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3366"/>
                </a:solidFill>
                <a:latin typeface="Times New Roman"/>
              </a:rPr>
              <a:t>الأساليب المتبعة للتعامل مع المشكلات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&quot;Hattingen-Sprohovel, North Rhine-Westphalia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32004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t">
            <a:normAutofit fontScale="84000"/>
          </a:bodyPr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جهل بحدوثها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رتياح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MCS SILVER"/>
              </a:rPr>
              <a:t>من أسباب عدم مواجهة المشكلة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3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809640" y="4495320"/>
            <a:ext cx="795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" descr="&quot;Yellow Tulip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560" y="533520"/>
            <a:ext cx="373356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cs typeface="Simplified Arabic"/>
              </a:rPr>
              <a:t>كونها تتعلق بشخص محبوب أو مكروه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MCS SILVER"/>
              </a:rPr>
              <a:t>إذا كانت .......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3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&quot;Alpine Flower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3124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b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توضيح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مستفادة من المشكل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80" y="762120"/>
            <a:ext cx="30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a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إيجابي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4" name="" descr="&quot;Kinkakuji Temple, Kyoto, Japan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تجميع</a:t>
            </a:r>
            <a:r>
              <a:rPr b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cs typeface="MCS SILVER"/>
              </a:rPr>
              <a:t>المشاكل الصغيرة كمشكلة كبيرة واحدة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عتماد على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المشاعر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دون الحقائق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القفز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مباشرة إلى الأسباب والحلول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ختلاف حول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معيار الأداء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قياسي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629400" cy="838440"/>
          </a:xfrm>
          <a:prstGeom prst="rect">
            <a:avLst/>
          </a:prstGeom>
          <a:solidFill>
            <a:srgbClr val="ffd175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أخطاء في تحديد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&quot;Majestic Descent&quot; © Tom Brake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2666880"/>
            <a:ext cx="3962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لتركيز على الأسباب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  <a:cs typeface="MCS SILVER"/>
              </a:rPr>
              <a:t>الخارجية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فقط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&quot;Lubeck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3581280" cy="338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MCS SILVER"/>
              </a:rPr>
              <a:t>إغفا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مشاركة المستويات الإدارية القريبة من تنفيذ العم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المشكلة فرصة ثمينة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كيف تدرك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38600" y="2933640"/>
            <a:ext cx="1666800" cy="990720"/>
            <a:chOff x="3738600" y="2933640"/>
            <a:chExt cx="1666800" cy="990720"/>
          </a:xfrm>
        </p:grpSpPr>
        <p:sp>
          <p:nvSpPr>
            <p:cNvPr id="302" name=""/>
            <p:cNvSpPr/>
            <p:nvPr/>
          </p:nvSpPr>
          <p:spPr>
            <a:xfrm>
              <a:off x="373860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8600" y="2933640"/>
              <a:ext cx="1666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900" spc="-1" strike="noStrike">
                  <a:solidFill>
                    <a:srgbClr val="0033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04" name="" descr="&quot;Rush, Mammoth Mountain, California&quot; © Ron Romano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7162920" cy="243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االتأكيد على ضرورة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في التعامل مع المشكلا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25960" y="2362320"/>
            <a:ext cx="7174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الصراحة والوضوح والدقة</a:t>
            </a: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Trinity&quot; © Digital Blasph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3429000"/>
            <a:ext cx="795816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5008a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54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هي الصعوبات التي تواجهنا عند الانتقال من مرحلة إلى أخرى؛ وهي إمّا تمنع الوصول أو تؤخره أو تؤثر في نوعيته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095880" y="304920"/>
            <a:ext cx="281952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6006b"/>
            </a:outerShdw>
          </a:effectLst>
        </p:spPr>
        <p:txBody>
          <a:bodyPr anchor="t">
            <a:no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تعريف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المشكلة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: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&quot;Cool Canyon&quot; © Michael Co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09480"/>
            <a:ext cx="327672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 </a:t>
            </a: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تنفيذ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 عن المعايير المحددة بزيادة أو نقص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انجاز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من الوصول إلى وضع أفضل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380880"/>
            <a:ext cx="3733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 u="sng">
                <a:solidFill>
                  <a:srgbClr val="ffca5f"/>
                </a:solidFill>
                <a:uFillTx/>
                <a:latin typeface="Times New Roman"/>
              </a:rPr>
              <a:t> أنواع المشاكل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219320"/>
            <a:ext cx="1600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الانحرا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5360" y="3886200"/>
            <a:ext cx="172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ما يمن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&quot;Pyramids, Egypt&quot; © H. Armstrong Roberts /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لاشي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124080"/>
            <a:ext cx="320040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966f00"/>
                </a:solidFill>
                <a:latin typeface="Tahoma"/>
                <a:cs typeface="Traditional Arabic"/>
              </a:rPr>
              <a:t>المشكلة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95320" y="0"/>
            <a:ext cx="448308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33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daa100"/>
                </a:solidFill>
                <a:latin typeface="Times New Roman"/>
              </a:rPr>
              <a:t>تقسيمات أخرى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فاقم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6095880"/>
            <a:ext cx="1371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ثابت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 rot="10800000">
            <a:off x="2437920" y="4343040"/>
            <a:ext cx="4648680" cy="1752840"/>
          </a:xfrm>
          <a:prstGeom prst="rect">
            <a:avLst/>
          </a:prstGeom>
          <a:noFill/>
          <a:ln w="5724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Dic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324" name=""/>
          <p:cNvSpPr/>
          <p:nvPr/>
        </p:nvSpPr>
        <p:spPr>
          <a:xfrm>
            <a:off x="3276720" y="236232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2004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26708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2578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وقع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فاجئ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ناد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كر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962520"/>
            <a:ext cx="1981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فرد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396252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جماع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4952880"/>
            <a:ext cx="19814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قديم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9528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حديث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723920" y="609120"/>
            <a:ext cx="4025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قسيمات أخرى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&quot;California Poppies and other Spring Wildflowers, Tehachapi Mountains, California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gradFill rotWithShape="0">
            <a:gsLst>
              <a:gs pos="0">
                <a:srgbClr val="004574"/>
              </a:gs>
              <a:gs pos="100000">
                <a:srgbClr val="007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bd5b"/>
                </a:solidFill>
                <a:latin typeface="Times New Roman"/>
                <a:cs typeface="Simplified Arabic"/>
              </a:rPr>
              <a:t>قد </a:t>
            </a:r>
            <a:r>
              <a:rPr b="1" lang="ar-SA" sz="4400" spc="-1" strike="noStrike" u="sng">
                <a:solidFill>
                  <a:srgbClr val="ffbd5b"/>
                </a:solidFill>
                <a:uFillTx/>
                <a:latin typeface="Times New Roman"/>
                <a:cs typeface="Simplified Arabic"/>
              </a:rPr>
              <a:t>يستحيل</a:t>
            </a:r>
            <a:r>
              <a:rPr b="1" lang="ar-SA" sz="4400" spc="-1" strike="noStrike">
                <a:solidFill>
                  <a:srgbClr val="ffbd5b"/>
                </a:solidFill>
                <a:latin typeface="Times New Roman"/>
                <a:ea typeface="Simplified Arabic"/>
              </a:rPr>
              <a:t> الحصول على حلول كاملة في واقع غير كامل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0"/>
            <a:ext cx="6095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</a:rPr>
              <a:t> مقدمات مهمة عن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31240" y="914400"/>
            <a:ext cx="601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66"/>
                </a:solidFill>
                <a:latin typeface="Times New Roman"/>
              </a:rPr>
              <a:t>المشكلات الإدار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33:13Z</dcterms:modified>
  <cp:revision>170</cp:revision>
  <dc:subject/>
  <dc:title>المشكلات الإدارية وكيفية علاجها ؟</dc:title>
</cp:coreProperties>
</file>