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8.gif" ContentType="image/gif"/>
  <Override PartName="/ppt/media/image19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20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0CD-B790-4C66-9BAD-CBE89B16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5F3-8F12-4A40-8A6A-B5D47B77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852-3067-401B-90D3-3D2AFD1F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BB4-B15A-4530-B8D5-3E1DFFFD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06A-483A-481E-B059-443FDFB0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D57-682C-4E37-9A1D-266CE83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EA7-CCDB-416B-82BB-D0C2C67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1D0-AB11-47C2-8BA2-49337CF3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257-416F-4537-9447-EEDBC661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4EB-9A12-4224-B491-2F394EF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AC2-8F7E-48F5-B6DE-E93E8CF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5B9-D909-4D17-BD95-CC025F1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539D-33B0-471D-8FC0-51100B7BEB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hyperlink" Target="file:///Main.pp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0199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421080"/>
            <a:ext cx="6624720" cy="764280"/>
          </a:xfrm>
          <a:prstGeom prst="rect">
            <a:avLst/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Hesham Gornata"/>
              </a:rPr>
              <a:t>مهارات الاتصال ( الحوار 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956120"/>
            <a:ext cx="3922920" cy="2297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شعبة البرامج العامة و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1511280"/>
            <a:ext cx="5322600" cy="1082520"/>
            <a:chOff x="2916360" y="1511280"/>
            <a:chExt cx="5322600" cy="1082520"/>
          </a:xfrm>
        </p:grpSpPr>
        <p:sp>
          <p:nvSpPr>
            <p:cNvPr id="108" name=""/>
            <p:cNvSpPr/>
            <p:nvPr/>
          </p:nvSpPr>
          <p:spPr>
            <a:xfrm>
              <a:off x="2916360" y="1511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57080" y="1684080"/>
              <a:ext cx="192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جاه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16360" y="2732040"/>
            <a:ext cx="5322600" cy="1082880"/>
            <a:chOff x="2916360" y="2732040"/>
            <a:chExt cx="5322600" cy="1082880"/>
          </a:xfrm>
        </p:grpSpPr>
        <p:sp>
          <p:nvSpPr>
            <p:cNvPr id="111" name=""/>
            <p:cNvSpPr/>
            <p:nvPr/>
          </p:nvSpPr>
          <p:spPr>
            <a:xfrm>
              <a:off x="2916360" y="273204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5960" y="2905200"/>
              <a:ext cx="4012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2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ظاهر بالاستماع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16360" y="3959280"/>
            <a:ext cx="5322600" cy="1082520"/>
            <a:chOff x="2916360" y="3959280"/>
            <a:chExt cx="5322600" cy="1082520"/>
          </a:xfrm>
        </p:grpSpPr>
        <p:sp>
          <p:nvSpPr>
            <p:cNvPr id="114" name=""/>
            <p:cNvSpPr/>
            <p:nvPr/>
          </p:nvSpPr>
          <p:spPr>
            <a:xfrm>
              <a:off x="2916360" y="3959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1000" y="4097520"/>
              <a:ext cx="36615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الجزئي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16360" y="5181480"/>
            <a:ext cx="5322600" cy="1082880"/>
            <a:chOff x="2916360" y="5181480"/>
            <a:chExt cx="5322600" cy="1082880"/>
          </a:xfrm>
        </p:grpSpPr>
        <p:sp>
          <p:nvSpPr>
            <p:cNvPr id="117" name=""/>
            <p:cNvSpPr/>
            <p:nvPr/>
          </p:nvSpPr>
          <p:spPr>
            <a:xfrm>
              <a:off x="2916360" y="518148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4160" y="5327640"/>
              <a:ext cx="358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بانتبا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388360" y="1655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288936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103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8360" y="534672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920" y="1328760"/>
            <a:ext cx="4498920" cy="5224320"/>
            <a:chOff x="34920" y="1328760"/>
            <a:chExt cx="4498920" cy="5224320"/>
          </a:xfrm>
        </p:grpSpPr>
        <p:grpSp>
          <p:nvGrpSpPr>
            <p:cNvPr id="124" name=""/>
            <p:cNvGrpSpPr/>
            <p:nvPr/>
          </p:nvGrpSpPr>
          <p:grpSpPr>
            <a:xfrm>
              <a:off x="34920" y="1328760"/>
              <a:ext cx="4498920" cy="5224320"/>
              <a:chOff x="34920" y="1328760"/>
              <a:chExt cx="4498920" cy="522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34920" y="1328760"/>
                <a:ext cx="4498920" cy="52243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2680" y="1437480"/>
                <a:ext cx="4340520" cy="50076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573120" y="1800360"/>
              <a:ext cx="3240000" cy="42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990720" y="1371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L-Mateen"/>
              </a:rPr>
              <a:t>  درجات الاستما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833560"/>
            <a:ext cx="365760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  <a:ea typeface="AL-Mateen"/>
              </a:rPr>
              <a:t> تمرين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6280" y="1371600"/>
            <a:ext cx="29718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L-Mateen"/>
              </a:rPr>
              <a:t> أنواع حو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533680"/>
            <a:ext cx="4267080" cy="2863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عدمي التعجيز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مناورة (الكر والف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لطوي (اسمع واستجب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طحي (لا تقترب من الأعماق فتغر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طريق المسدود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(لا داعي للحوار فلنتف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2533680"/>
            <a:ext cx="4267080" cy="316836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الحوار الإلغائي أو التسفيهي (كل ما عداي خطأ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حوار البرج العاج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وافق (معك على طول الخ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عاكس (عكسك دائما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حوار العدوان السلبي (صمت العناد والتجاه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380200">
            <a:off x="1047240" y="5200560"/>
            <a:ext cx="1409760" cy="1219320"/>
          </a:xfrm>
          <a:custGeom>
            <a:avLst/>
            <a:gdLst>
              <a:gd name="textAreaLeft" fmla="*/ 469800 w 1409760"/>
              <a:gd name="textAreaRight" fmla="*/ 1207440 w 1409760"/>
              <a:gd name="textAreaTop" fmla="*/ 828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rot="16180800">
            <a:off x="6532920" y="4971960"/>
            <a:ext cx="1409760" cy="1676520"/>
          </a:xfrm>
          <a:custGeom>
            <a:avLst/>
            <a:gdLst>
              <a:gd name="textAreaLeft" fmla="*/ 470160 w 1409760"/>
              <a:gd name="textAreaRight" fmla="*/ 1207800 w 1409760"/>
              <a:gd name="textAreaTop" fmla="*/ 1138680 h 1676520"/>
              <a:gd name="textAreaBottom" fmla="*/ 14360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410080"/>
            <a:ext cx="3809880" cy="10670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5562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حوارات س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95280"/>
            <a:ext cx="8839080" cy="9471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إذاً فما هي يا ترى مواصف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AL-Mateen"/>
              </a:rPr>
              <a:t>الحوار الإيجا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الذي نسعى لترسيخه بيننا ؟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989000"/>
            <a:ext cx="86868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حوار الإيجابي الصحي هو الحوار الموضوعي الذي يرى الحسنات والسلبيات في ذات الوق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يرى العقبات ويرى أيضا إمكانيات التغلب عليه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تفائل (في غير مبالغة ساذج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صادق عميق وواضح الكلمات ومدلولات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الحوار المتكافئ الذي يعطى لكلا الطرفين فرصة التعبير ، ويحترم الرأي الآخر ويعرف حتمية الخلاف في الرأي بين البشر وآداب الخلاف وتقبله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واقعي يتصل إيجابيا بالحياة اليومية الواقعية واتصاله هذا ليس اتصال قبول ورضوخ للأمر الواقع بل اتصال تفهم وتغيير وإصلاح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وافقة حين تكون الموافقة هي الصواب ومخالفة حين تكون المخالفة هي الصواب فالهدف النهائي له هو إثبات الحقيقة حيث هي لا حيث نراها بأهوائن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حوار تسوده المحبة والمسؤولية والرعاية وإنكار الذات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يسمح للآخر يقول رأيه مهما كان الفرق بين الطرف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498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2590920"/>
            <a:ext cx="49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نتمنى من الله العزيز القدير أن ن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قد وفقنا في هذا الجان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411012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ateen"/>
              </a:rPr>
              <a:t> أخو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181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reetag@hotmail.co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/>
          </p:cNvPr>
          <p:cNvSpPr/>
          <p:nvPr/>
        </p:nvSpPr>
        <p:spPr>
          <a:xfrm>
            <a:off x="838080" y="5410080"/>
            <a:ext cx="160020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5086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العملية التي يتم بها نقل المعلومات والمعاني والأفكار من شخص إلى آخر أو آخرين بصورة تحقق الأهداف المنشودة في المنشأة أو في أي جماعة من الناس ذات نشاط اجتماع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239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L-Mateen"/>
              </a:rPr>
              <a:t> ما هو الاتصال ؟؟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429000"/>
            <a:ext cx="8381880" cy="762120"/>
          </a:xfrm>
          <a:custGeom>
            <a:avLst/>
            <a:gdLst>
              <a:gd name="textAreaLeft" fmla="*/ 1635120 w 8381880"/>
              <a:gd name="textAreaRight" fmla="*/ 5908680 w 8381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-1806140"/>
                <a:lnTo>
                  <a:pt x="20164" y="12060"/>
                </a:lnTo>
                <a:lnTo>
                  <a:pt x="18148" y="0"/>
                </a:lnTo>
                <a:lnTo>
                  <a:pt x="13259" y="12060"/>
                </a:lnTo>
                <a:lnTo>
                  <a:pt x="15419" y="12060"/>
                </a:lnTo>
                <a:arcTo wR="8428" hR="21600" stAng="3593860" swAng="1598224"/>
                <a:lnTo>
                  <a:pt x="9720" y="21344"/>
                </a:lnTo>
                <a:arcTo wR="8428" hR="21600" stAng="5607917" swAng="5192083"/>
                <a:close/>
              </a:path>
              <a:path fill="darkenLess"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207917"/>
                <a:lnTo>
                  <a:pt x="9720" y="21344"/>
                </a:lnTo>
                <a:arcTo wR="8428" hR="21600" stAng="5607917" swAng="5192083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295280"/>
            <a:ext cx="883944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72280" y="1944720"/>
            <a:ext cx="316224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" y="1996920"/>
            <a:ext cx="3048120" cy="286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1371600"/>
            <a:ext cx="914400" cy="4724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292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5020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821120"/>
            <a:ext cx="143964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734080"/>
            <a:ext cx="41752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تغذية راج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78136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ست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29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قن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357720"/>
            <a:ext cx="18716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755600">
            <a:off x="285480" y="4425840"/>
            <a:ext cx="242892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303200">
            <a:off x="6843240" y="3781440"/>
            <a:ext cx="1276560" cy="257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380360" y="33577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508720" y="3357720"/>
            <a:ext cx="18716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فك 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364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050920" y="3357720"/>
            <a:ext cx="43200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 rot="4530000">
            <a:off x="2416680" y="39996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 rot="9986400">
            <a:off x="5073120" y="3921120"/>
            <a:ext cx="1508400" cy="10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564000" y="3429000"/>
            <a:ext cx="36036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224320" y="342900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1447920"/>
            <a:ext cx="33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  <a:cs typeface="AL-Mateen"/>
              </a:rPr>
              <a:t>الاتص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920" y="2232000"/>
          <a:ext cx="568944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232000"/>
                    <a:ext cx="5689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22200" y="124920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كتشف العالم الفرنسي البرت مهارابيان 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Albert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Meharabia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من جامعة هارفارد أن ( </a:t>
            </a: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AL-Mateen"/>
              </a:rPr>
              <a:t>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% من عملية الاتصالات تكون غير ملفوظ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570880" y="28098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8000" y="2665440"/>
            <a:ext cx="3782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تعبيرات الجسم </a:t>
            </a:r>
            <a:r>
              <a:rPr b="0" lang="en-US" sz="3800" spc="-1" strike="noStrike">
                <a:solidFill>
                  <a:srgbClr val="800000"/>
                </a:solidFill>
                <a:latin typeface="Arial"/>
                <a:ea typeface="AL-Mateen"/>
              </a:rPr>
              <a:t>5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559720" y="3630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19640" y="3457440"/>
            <a:ext cx="3379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00"/>
                </a:solidFill>
                <a:latin typeface="Arial"/>
                <a:cs typeface="AL-Mateen"/>
              </a:rPr>
              <a:t>نبرة الصوت </a:t>
            </a:r>
            <a:r>
              <a:rPr b="0" lang="en-US" sz="3700" spc="-1" strike="noStrike">
                <a:solidFill>
                  <a:srgbClr val="800000"/>
                </a:solidFill>
                <a:latin typeface="Arial"/>
                <a:ea typeface="AL-Mateen"/>
              </a:rPr>
              <a:t>38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559720" y="4422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2000" y="4246560"/>
            <a:ext cx="258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الكلمات 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905120"/>
            <a:ext cx="754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AL-Mateen"/>
              </a:rPr>
              <a:t>عناصر عملية الاتص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تكون عملية الاتصال من العناصر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مُرسِل أو المُصدِّ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رجمة وتسجيل الرسالة في شكل مفهو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رسالة موضوع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سيلة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فهم الرسالة بواسطة الشخص الذي يستقبل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سترجاع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2171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09680"/>
            <a:ext cx="8153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انتباه مستقبل الرسالة إلى محتوي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وجود تفهم دقيق للمقصود من الرسالة سواء بواسطة المرسل إليه أو المص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استخدام كلمات في الرسالة لها دلالات ومعان مختلفة لأشخاص مختلف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ضغط الوقت لكل من المرسل أو المرسل إل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تأثير الحكم الشخصي لمستقبل الرسالة على نجاح 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           الاتصا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284560" cy="22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14479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L-Mateen"/>
              </a:rPr>
              <a:t> معوقات الاتصا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686800" cy="62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AL-Mateen"/>
              </a:rPr>
              <a:t>التغلب على معوقات الاتصا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بشكل يتفق ورغبات الشخص ،  فالشخص يقبل على المعلومات أو يعرض عنها ،  طبقا لما إذا كانت تتفق مع احتياجاته أم لا ،  وهذا يدعو الإدارة إلى تفهم تلك الحاجات والرغبات وتصميم وسائل الاتصال تبعا 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في وحدات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تاحة الفرصة للشخص المرسل إليه المعلومات لأن يشرح وجهة نظره ف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المعلومات ورد الفعل نفسه-وذلك يهيئ لمرسل المعلومات الفرصة لكي يتأكد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 أن المعني الذي يقصده هو بذاته المعنى الذي فهمه المرسل إ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15892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4648320"/>
            <a:ext cx="1371600" cy="16002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480" y="2664000"/>
            <a:ext cx="8915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جلوس فى مكان بعيد عن الضوضاء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نظر باهتمام إلى المتحدث ، وإبداء الرغبة فى مشاركته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تكيف ذهنيا مع سرعة المتحد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دقة السمعية التى بدونها تتعطل جميع مهارات الاستماع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فسير ، والتمثيل اللذين عن طريقهما يفهم المستمع ما يقا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صوات المتعددة ، والإيماءات المختلفة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فكار الرئيسة ، والأفكار الثانوية فى الحدي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احتفاظ بالأفكار الرئيسة حية فى الذهن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6040" y="1523880"/>
            <a:ext cx="3460680" cy="1191240"/>
          </a:xfrm>
          <a:prstGeom prst="rect">
            <a:avLst/>
          </a:prstGeom>
          <a:solidFill>
            <a:srgbClr val="cc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S Sans Serif"/>
                <a:cs typeface="AL-Mateen"/>
              </a:rPr>
              <a:t>شروط الاستماع ال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638360" cy="2666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10:32Z</dcterms:created>
  <dc:creator>111</dc:creator>
  <dc:description/>
  <dc:language>en-US</dc:language>
  <cp:lastModifiedBy>***</cp:lastModifiedBy>
  <dcterms:modified xsi:type="dcterms:W3CDTF">2005-06-20T11:08:29Z</dcterms:modified>
  <cp:revision>104</cp:revision>
  <dc:subject/>
  <dc:title>الشريحة 1</dc:title>
</cp:coreProperties>
</file>