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5CD-2950-41D8-B9F0-0CCF5CFE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0DCA-6A5D-4216-8E98-8392DB39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6294-ACEA-4226-8EF9-273723FC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339-B2EC-4D32-A6AF-6C0B228B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DC56-04B2-44FE-882C-195EB8F5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933A-01CA-4503-B52E-02DCAAE7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DEB8-29A0-40DF-9B1B-9288F9F9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E7D7-CAF1-4981-84C2-77BFD015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0646-6BFA-4FAE-914A-47656B83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3129-FF4E-46AC-93EB-ACDF0BAC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0A2D-D0CB-4962-B345-DBE2F20D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9175-32F5-4082-A309-98270CD6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894A-191B-4387-921B-78809B3E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BDAC-F296-45B0-AAC6-6B911E59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A3FF-7237-461E-A34A-16DFCB88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A751-DBB6-41F1-901B-D454E4F6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35C0-FCE6-4905-AAF6-4CCCB0E9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C2B-1C0B-428B-B9D7-9B4DEC23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3E87-5877-4E7C-B865-71EE37A3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EC6B-718F-4ECD-BF22-2251FEE7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3F4C-B35C-41E1-87C2-E4896BDB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EEA-C244-45D6-B873-0C40B1A5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2C1-4A7B-4D74-81F1-B9BC76F0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AAEE-4F1D-408F-95B1-A6FCF70E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  <a:ea typeface="Times New Roman (Arabic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0458c"/>
                </a:solidFill>
                <a:latin typeface="Tahoma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08CE-C147-476C-B1ED-920EACFD34E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  <a:ea typeface="Times New Roman (Arabic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0458c"/>
                </a:solidFill>
                <a:latin typeface="Tahoma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AC9B-3769-4449-BCD6-032BC2EC555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wmf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slide" Target="slide13.xml"/><Relationship Id="rId18" Type="http://schemas.openxmlformats.org/officeDocument/2006/relationships/slide" Target="slide13.xml"/><Relationship Id="rId19" Type="http://schemas.openxmlformats.org/officeDocument/2006/relationships/slide" Target="slide14.xml"/><Relationship Id="rId20" Type="http://schemas.openxmlformats.org/officeDocument/2006/relationships/slide" Target="slide14.xml"/><Relationship Id="rId21" Type="http://schemas.openxmlformats.org/officeDocument/2006/relationships/slide" Target="slide15.xml"/><Relationship Id="rId22" Type="http://schemas.openxmlformats.org/officeDocument/2006/relationships/slide" Target="slide15.xml"/><Relationship Id="rId23" Type="http://schemas.openxmlformats.org/officeDocument/2006/relationships/slide" Target="slide16.xml"/><Relationship Id="rId24" Type="http://schemas.openxmlformats.org/officeDocument/2006/relationships/slide" Target="slide16.xml"/><Relationship Id="rId25" Type="http://schemas.openxmlformats.org/officeDocument/2006/relationships/slide" Target="slide17.xml"/><Relationship Id="rId26" Type="http://schemas.openxmlformats.org/officeDocument/2006/relationships/slide" Target="slide17.xml"/><Relationship Id="rId27" Type="http://schemas.openxmlformats.org/officeDocument/2006/relationships/slide" Target="slide21.xml"/><Relationship Id="rId28" Type="http://schemas.openxmlformats.org/officeDocument/2006/relationships/slide" Target="slide21.xml"/><Relationship Id="rId29" Type="http://schemas.openxmlformats.org/officeDocument/2006/relationships/slide" Target="slide22.xml"/><Relationship Id="rId30" Type="http://schemas.openxmlformats.org/officeDocument/2006/relationships/slide" Target="slide22.xml"/><Relationship Id="rId31" Type="http://schemas.openxmlformats.org/officeDocument/2006/relationships/slide" Target="slide23.xml"/><Relationship Id="rId32" Type="http://schemas.openxmlformats.org/officeDocument/2006/relationships/slide" Target="slide23.xml"/><Relationship Id="rId33" Type="http://schemas.openxmlformats.org/officeDocument/2006/relationships/slide" Target="slide25.xml"/><Relationship Id="rId34" Type="http://schemas.openxmlformats.org/officeDocument/2006/relationships/slide" Target="slide25.xml"/><Relationship Id="rId35" Type="http://schemas.openxmlformats.org/officeDocument/2006/relationships/slide" Target="slide24.xml"/><Relationship Id="rId36" Type="http://schemas.openxmlformats.org/officeDocument/2006/relationships/slide" Target="slide24.xml"/><Relationship Id="rId37" Type="http://schemas.openxmlformats.org/officeDocument/2006/relationships/slide" Target="slide26.xml"/><Relationship Id="rId38" Type="http://schemas.openxmlformats.org/officeDocument/2006/relationships/slide" Target="slide26.xml"/><Relationship Id="rId39" Type="http://schemas.openxmlformats.org/officeDocument/2006/relationships/slide" Target="slide30.xml"/><Relationship Id="rId40" Type="http://schemas.openxmlformats.org/officeDocument/2006/relationships/slide" Target="slide30.xml"/><Relationship Id="rId41" Type="http://schemas.openxmlformats.org/officeDocument/2006/relationships/slide" Target="slide31.xml"/><Relationship Id="rId42" Type="http://schemas.openxmlformats.org/officeDocument/2006/relationships/slide" Target="slide31.xml"/><Relationship Id="rId43" Type="http://schemas.openxmlformats.org/officeDocument/2006/relationships/slide" Target="slide32.xml"/><Relationship Id="rId44" Type="http://schemas.openxmlformats.org/officeDocument/2006/relationships/slide" Target="slide32.xml"/><Relationship Id="rId45" Type="http://schemas.openxmlformats.org/officeDocument/2006/relationships/slide" Target="slide33.xml"/><Relationship Id="rId46" Type="http://schemas.openxmlformats.org/officeDocument/2006/relationships/slide" Target="slide34.xml"/><Relationship Id="rId47" Type="http://schemas.openxmlformats.org/officeDocument/2006/relationships/slide" Target="slide35.xml"/><Relationship Id="rId48" Type="http://schemas.openxmlformats.org/officeDocument/2006/relationships/slide" Target="slide9.xml"/><Relationship Id="rId49" Type="http://schemas.openxmlformats.org/officeDocument/2006/relationships/slide" Target="slide9.xml"/><Relationship Id="rId50" Type="http://schemas.openxmlformats.org/officeDocument/2006/relationships/slide" Target="slide10.xml"/><Relationship Id="rId51" Type="http://schemas.openxmlformats.org/officeDocument/2006/relationships/slide" Target="slide11.xml"/><Relationship Id="rId52" Type="http://schemas.openxmlformats.org/officeDocument/2006/relationships/slide" Target="slide11.xml"/><Relationship Id="rId53" Type="http://schemas.openxmlformats.org/officeDocument/2006/relationships/slide" Target="slide18.xml"/><Relationship Id="rId54" Type="http://schemas.openxmlformats.org/officeDocument/2006/relationships/slide" Target="slide18.xml"/><Relationship Id="rId55" Type="http://schemas.openxmlformats.org/officeDocument/2006/relationships/slide" Target="slide19.xml"/><Relationship Id="rId56" Type="http://schemas.openxmlformats.org/officeDocument/2006/relationships/slide" Target="slide19.xml"/><Relationship Id="rId57" Type="http://schemas.openxmlformats.org/officeDocument/2006/relationships/slide" Target="slide20.xml"/><Relationship Id="rId58" Type="http://schemas.openxmlformats.org/officeDocument/2006/relationships/slide" Target="slide20.xml"/><Relationship Id="rId59" Type="http://schemas.openxmlformats.org/officeDocument/2006/relationships/slide" Target="slide27.xml"/><Relationship Id="rId60" Type="http://schemas.openxmlformats.org/officeDocument/2006/relationships/slide" Target="slide27.xml"/><Relationship Id="rId61" Type="http://schemas.openxmlformats.org/officeDocument/2006/relationships/slide" Target="slide28.xml"/><Relationship Id="rId62" Type="http://schemas.openxmlformats.org/officeDocument/2006/relationships/slide" Target="slide28.xml"/><Relationship Id="rId63" Type="http://schemas.openxmlformats.org/officeDocument/2006/relationships/slide" Target="slide29.xml"/><Relationship Id="rId64" Type="http://schemas.openxmlformats.org/officeDocument/2006/relationships/slide" Target="slide29.xml"/><Relationship Id="rId65" Type="http://schemas.openxmlformats.org/officeDocument/2006/relationships/slide" Target="slide36.xml"/><Relationship Id="rId66" Type="http://schemas.openxmlformats.org/officeDocument/2006/relationships/slide" Target="slide37.xml"/><Relationship Id="rId67" Type="http://schemas.openxmlformats.org/officeDocument/2006/relationships/slide" Target="slide38.xml"/><Relationship Id="rId68" Type="http://schemas.openxmlformats.org/officeDocument/2006/relationships/slide" Target="slide39.xml"/><Relationship Id="rId69" Type="http://schemas.openxmlformats.org/officeDocument/2006/relationships/slide" Target="slide40.xml"/><Relationship Id="rId70" Type="http://schemas.openxmlformats.org/officeDocument/2006/relationships/slide" Target="slide41.xml"/><Relationship Id="rId71" Type="http://schemas.openxmlformats.org/officeDocument/2006/relationships/slide" Target="slide42.xml"/><Relationship Id="rId72" Type="http://schemas.openxmlformats.org/officeDocument/2006/relationships/slide" Target="slide43.xml"/><Relationship Id="rId73" Type="http://schemas.openxmlformats.org/officeDocument/2006/relationships/slide" Target="slide44.xml"/><Relationship Id="rId74" Type="http://schemas.openxmlformats.org/officeDocument/2006/relationships/slide" Target="slide48.xml"/><Relationship Id="rId75" Type="http://schemas.openxmlformats.org/officeDocument/2006/relationships/slide" Target="slide49.xml"/><Relationship Id="rId76" Type="http://schemas.openxmlformats.org/officeDocument/2006/relationships/slide" Target="slide50.xml"/><Relationship Id="rId77" Type="http://schemas.openxmlformats.org/officeDocument/2006/relationships/slide" Target="slide51.xml"/><Relationship Id="rId78" Type="http://schemas.openxmlformats.org/officeDocument/2006/relationships/slide" Target="slide52.xml"/><Relationship Id="rId79" Type="http://schemas.openxmlformats.org/officeDocument/2006/relationships/slide" Target="slide53.xml"/><Relationship Id="rId80" Type="http://schemas.openxmlformats.org/officeDocument/2006/relationships/slide" Target="slide45.xml"/><Relationship Id="rId81" Type="http://schemas.openxmlformats.org/officeDocument/2006/relationships/slide" Target="slide46.xml"/><Relationship Id="rId82" Type="http://schemas.openxmlformats.org/officeDocument/2006/relationships/slide" Target="slide47.xml"/><Relationship Id="rId83" Type="http://schemas.openxmlformats.org/officeDocument/2006/relationships/slide" Target="slide54.xml"/><Relationship Id="rId84" Type="http://schemas.openxmlformats.org/officeDocument/2006/relationships/slide" Target="slide55.xml"/><Relationship Id="rId85" Type="http://schemas.openxmlformats.org/officeDocument/2006/relationships/slide" Target="slide56.xml"/><Relationship Id="rId8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bd10267_" descr=""/>
          <p:cNvPicPr/>
          <p:nvPr/>
        </p:nvPicPr>
        <p:blipFill>
          <a:blip r:embed="rId1"/>
          <a:stretch/>
        </p:blipFill>
        <p:spPr>
          <a:xfrm>
            <a:off x="2674800" y="473040"/>
            <a:ext cx="3335400" cy="880920"/>
          </a:xfrm>
          <a:prstGeom prst="rect">
            <a:avLst/>
          </a:prstGeom>
          <a:ln w="0">
            <a:noFill/>
          </a:ln>
        </p:spPr>
      </p:pic>
      <p:pic>
        <p:nvPicPr>
          <p:cNvPr id="209" name="bd10267_" descr=""/>
          <p:cNvPicPr/>
          <p:nvPr/>
        </p:nvPicPr>
        <p:blipFill>
          <a:blip r:embed="rId2"/>
          <a:stretch/>
        </p:blipFill>
        <p:spPr>
          <a:xfrm>
            <a:off x="936720" y="1612800"/>
            <a:ext cx="2342880" cy="13604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147680" y="4001760"/>
            <a:ext cx="6400800" cy="69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7c1eb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58c"/>
                </a:solidFill>
                <a:latin typeface="Tahoma"/>
                <a:cs typeface="DecoType Thuluth"/>
              </a:rPr>
              <a:t>لا تنسونا من صالح دعائكم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054080" y="1676520"/>
            <a:ext cx="7785000" cy="1155600"/>
          </a:xfrm>
          <a:prstGeom prst="rect">
            <a:avLst/>
          </a:prstGeom>
          <a:ln w="0">
            <a:noFill/>
          </a:ln>
        </p:spPr>
      </p:pic>
      <p:pic>
        <p:nvPicPr>
          <p:cNvPr id="212" name="bs00559_" descr=""/>
          <p:cNvPicPr/>
          <p:nvPr/>
        </p:nvPicPr>
        <p:blipFill>
          <a:blip r:embed="rId4"/>
          <a:stretch/>
        </p:blipFill>
        <p:spPr>
          <a:xfrm>
            <a:off x="1143000" y="1752480"/>
            <a:ext cx="1905120" cy="1079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2160720" y="4483080"/>
            <a:ext cx="4352760" cy="2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ن أول سفير في الإسلام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24000" y="6203880"/>
            <a:ext cx="68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عثمان بن عفان في صلح الحديبي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09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01920" y="2244600"/>
            <a:ext cx="681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ا أول ما يتكلم من الإنسان يوم القيامة؟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فخذه وكف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14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755720" y="2708280"/>
            <a:ext cx="6905520" cy="18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ahoma"/>
              </a:rPr>
              <a:t>احصل على مجلة المجتمع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341360" y="5327640"/>
            <a:ext cx="257040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9760" y="2244600"/>
            <a:ext cx="781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صحابي ألقى بنفسه على حديقة الموت في معركة اليمامة من هو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براء بن مال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22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01920" y="2244600"/>
            <a:ext cx="681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اذا يعنى كل من الاسمين التاليين :الاسامة و الدوسر؟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36920" y="6203880"/>
            <a:ext cx="462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إسامة؟هو الأسد-أماالدوسر هو الجم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27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4840" y="1635120"/>
            <a:ext cx="6818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أجب بـ(</a:t>
            </a:r>
            <a:r>
              <a:rPr b="0" lang="ar-SA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ea typeface="Traditional Arabic"/>
              </a:rPr>
              <a:t>) أو(</a:t>
            </a:r>
            <a:r>
              <a:rPr b="0" lang="ar-SA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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ea typeface="Traditional Arabic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غوغاء هو الجراد الصغير.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رشا وخوله:هما من أسماء الظبي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 </a:t>
            </a:r>
            <a:r>
              <a:rPr b="0" lang="ar-SA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 - </a:t>
            </a:r>
            <a:r>
              <a:rPr b="0" lang="ar-SA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06360" y="366408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32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9800" y="2244600"/>
            <a:ext cx="77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ا معنى الكلمات التالية:ابن السبيل-ابن مزنة-بنت الفكر-بنات الليل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21360" y="6203880"/>
            <a:ext cx="38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غريب-الهلال-الرأي-الأحلام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37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ة واحد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746280" y="1652760"/>
            <a:ext cx="7935840" cy="2355840"/>
          </a:xfrm>
          <a:prstGeom prst="rect">
            <a:avLst/>
          </a:prstGeom>
          <a:ln w="0">
            <a:noFill/>
          </a:ln>
        </p:spPr>
      </p:pic>
      <p:sp>
        <p:nvSpPr>
          <p:cNvPr id="339" name="">
            <a:hlinkClick r:id="rId2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755800" y="3968640"/>
            <a:ext cx="3784680" cy="186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01920" y="2244600"/>
            <a:ext cx="68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ا هي الدول الاسكندنافية؟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03880" y="5943600"/>
            <a:ext cx="38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سويد-النرويج-الدانمر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45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ترى كل شىء ومع ذلك ليس لها عيون؟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مرآ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50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ة واحد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82840" y="312840"/>
            <a:ext cx="2600280" cy="1333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23960" y="1647720"/>
            <a:ext cx="7848720" cy="4953240"/>
          </a:xfrm>
          <a:prstGeom prst="bevel">
            <a:avLst>
              <a:gd name="adj" fmla="val 1444"/>
            </a:avLst>
          </a:prstGeom>
          <a:solidFill>
            <a:srgbClr val="dddddd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6" name="bs00559_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49320" y="2043000"/>
            <a:ext cx="7435800" cy="421344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7353360" y="180036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4" action="ppaction://hlinksldjump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>
            <a:hlinkClick r:id="rId5" action="ppaction://hlinksldjump"/>
          </p:cNvPr>
          <p:cNvSpPr/>
          <p:nvPr/>
        </p:nvSpPr>
        <p:spPr>
          <a:xfrm>
            <a:off x="6585120" y="180180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6" action="ppaction://hlinksldjump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>
            <a:hlinkClick r:id="rId7" action="ppaction://hlinksldjump"/>
          </p:cNvPr>
          <p:cNvSpPr/>
          <p:nvPr/>
        </p:nvSpPr>
        <p:spPr>
          <a:xfrm>
            <a:off x="5819760" y="180180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8" action="ppaction://hlinksldjump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>
            <a:hlinkClick r:id="rId9" action="ppaction://hlinksldjump"/>
          </p:cNvPr>
          <p:cNvSpPr/>
          <p:nvPr/>
        </p:nvSpPr>
        <p:spPr>
          <a:xfrm>
            <a:off x="5052960" y="180036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10" action="ppaction://hlinksldjump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>
            <a:hlinkClick r:id="rId11" action="ppaction://hlinksldjump"/>
          </p:cNvPr>
          <p:cNvSpPr/>
          <p:nvPr/>
        </p:nvSpPr>
        <p:spPr>
          <a:xfrm>
            <a:off x="4286160" y="18018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12" action="ppaction://hlinksldjump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>
            <a:hlinkClick r:id="rId13" action="ppaction://hlinksldjump"/>
          </p:cNvPr>
          <p:cNvSpPr/>
          <p:nvPr/>
        </p:nvSpPr>
        <p:spPr>
          <a:xfrm>
            <a:off x="3521160" y="18018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14" action="ppaction://hlinksldjump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>
            <a:hlinkClick r:id="rId15" action="ppaction://hlinksldjump"/>
          </p:cNvPr>
          <p:cNvSpPr/>
          <p:nvPr/>
        </p:nvSpPr>
        <p:spPr>
          <a:xfrm>
            <a:off x="7353360" y="2592360"/>
            <a:ext cx="642960" cy="644400"/>
          </a:xfrm>
          <a:custGeom>
            <a:avLst/>
            <a:gdLst>
              <a:gd name="textAreaLeft" fmla="*/ 23400 w 642960"/>
              <a:gd name="textAreaRight" fmla="*/ 619560 w 64296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48">
                <a:moveTo>
                  <a:pt x="2700" y="0"/>
                </a:moveTo>
                <a:arcTo wR="2700" hR="2700" stAng="16200000" swAng="-5400000"/>
                <a:lnTo>
                  <a:pt x="0" y="18948"/>
                </a:lnTo>
                <a:arcTo wR="2700" hR="2700" stAng="10800000" swAng="-5400000"/>
                <a:lnTo>
                  <a:pt x="18900" y="21648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16" action="ppaction://hlinksldjump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>
            <a:hlinkClick r:id="rId17" action="ppaction://hlinksldjump"/>
          </p:cNvPr>
          <p:cNvSpPr/>
          <p:nvPr/>
        </p:nvSpPr>
        <p:spPr>
          <a:xfrm>
            <a:off x="6585120" y="259380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18" action="ppaction://hlinksldjump"/>
              </a:rPr>
              <a:t>1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>
            <a:hlinkClick r:id="rId19" action="ppaction://hlinksldjump"/>
          </p:cNvPr>
          <p:cNvSpPr/>
          <p:nvPr/>
        </p:nvSpPr>
        <p:spPr>
          <a:xfrm>
            <a:off x="5819760" y="259380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20" action="ppaction://hlinksldjump"/>
              </a:rPr>
              <a:t>1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>
            <a:hlinkClick r:id="rId21" action="ppaction://hlinksldjump"/>
          </p:cNvPr>
          <p:cNvSpPr/>
          <p:nvPr/>
        </p:nvSpPr>
        <p:spPr>
          <a:xfrm>
            <a:off x="5052960" y="2592360"/>
            <a:ext cx="644400" cy="6444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22" action="ppaction://hlinksldjump"/>
              </a:rPr>
              <a:t>1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>
            <a:hlinkClick r:id="rId23" action="ppaction://hlinksldjump"/>
          </p:cNvPr>
          <p:cNvSpPr/>
          <p:nvPr/>
        </p:nvSpPr>
        <p:spPr>
          <a:xfrm>
            <a:off x="4286160" y="25938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24" action="ppaction://hlinksldjump"/>
              </a:rPr>
              <a:t>1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>
            <a:hlinkClick r:id="rId25" action="ppaction://hlinksldjump"/>
          </p:cNvPr>
          <p:cNvSpPr/>
          <p:nvPr/>
        </p:nvSpPr>
        <p:spPr>
          <a:xfrm>
            <a:off x="3521160" y="25938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26" action="ppaction://hlinksldjump"/>
              </a:rPr>
              <a:t>1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>
            <a:hlinkClick r:id="rId27" action="ppaction://hlinksldjump"/>
          </p:cNvPr>
          <p:cNvSpPr/>
          <p:nvPr/>
        </p:nvSpPr>
        <p:spPr>
          <a:xfrm>
            <a:off x="7353360" y="339408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28" action="ppaction://hlinksldjump"/>
              </a:rPr>
              <a:t>19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>
            <a:hlinkClick r:id="rId29" action="ppaction://hlinksldjump"/>
          </p:cNvPr>
          <p:cNvSpPr/>
          <p:nvPr/>
        </p:nvSpPr>
        <p:spPr>
          <a:xfrm>
            <a:off x="6585120" y="3394080"/>
            <a:ext cx="644400" cy="6444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30" action="ppaction://hlinksldjump"/>
              </a:rPr>
              <a:t>2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>
            <a:hlinkClick r:id="rId31" action="ppaction://hlinksldjump"/>
          </p:cNvPr>
          <p:cNvSpPr/>
          <p:nvPr/>
        </p:nvSpPr>
        <p:spPr>
          <a:xfrm>
            <a:off x="5819760" y="3394080"/>
            <a:ext cx="644400" cy="6444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32" action="ppaction://hlinksldjump"/>
              </a:rPr>
              <a:t>2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>
            <a:hlinkClick r:id="rId33" action="ppaction://hlinksldjump"/>
          </p:cNvPr>
          <p:cNvSpPr/>
          <p:nvPr/>
        </p:nvSpPr>
        <p:spPr>
          <a:xfrm>
            <a:off x="5052960" y="339408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34" action="ppaction://hlinksldjump"/>
              </a:rPr>
              <a:t>2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>
            <a:hlinkClick r:id="rId35" action="ppaction://hlinksldjump"/>
          </p:cNvPr>
          <p:cNvSpPr/>
          <p:nvPr/>
        </p:nvSpPr>
        <p:spPr>
          <a:xfrm>
            <a:off x="4286160" y="3394080"/>
            <a:ext cx="642960" cy="644400"/>
          </a:xfrm>
          <a:custGeom>
            <a:avLst/>
            <a:gdLst>
              <a:gd name="textAreaLeft" fmla="*/ 23400 w 642960"/>
              <a:gd name="textAreaRight" fmla="*/ 619560 w 64296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48">
                <a:moveTo>
                  <a:pt x="2700" y="0"/>
                </a:moveTo>
                <a:arcTo wR="2700" hR="2700" stAng="16200000" swAng="-5400000"/>
                <a:lnTo>
                  <a:pt x="0" y="18948"/>
                </a:lnTo>
                <a:arcTo wR="2700" hR="2700" stAng="10800000" swAng="-5400000"/>
                <a:lnTo>
                  <a:pt x="18900" y="21648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36" action="ppaction://hlinksldjump"/>
              </a:rPr>
              <a:t>2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>
            <a:hlinkClick r:id="rId37" action="ppaction://hlinksldjump"/>
          </p:cNvPr>
          <p:cNvSpPr/>
          <p:nvPr/>
        </p:nvSpPr>
        <p:spPr>
          <a:xfrm>
            <a:off x="3521160" y="3394080"/>
            <a:ext cx="642960" cy="644400"/>
          </a:xfrm>
          <a:custGeom>
            <a:avLst/>
            <a:gdLst>
              <a:gd name="textAreaLeft" fmla="*/ 23400 w 642960"/>
              <a:gd name="textAreaRight" fmla="*/ 619560 w 64296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48">
                <a:moveTo>
                  <a:pt x="2700" y="0"/>
                </a:moveTo>
                <a:arcTo wR="2700" hR="2700" stAng="16200000" swAng="-5400000"/>
                <a:lnTo>
                  <a:pt x="0" y="18948"/>
                </a:lnTo>
                <a:arcTo wR="2700" hR="2700" stAng="10800000" swAng="-5400000"/>
                <a:lnTo>
                  <a:pt x="18900" y="21648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38" action="ppaction://hlinksldjump"/>
              </a:rPr>
              <a:t>2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>
            <a:hlinkClick r:id="rId39" action="ppaction://hlinksldjump"/>
          </p:cNvPr>
          <p:cNvSpPr/>
          <p:nvPr/>
        </p:nvSpPr>
        <p:spPr>
          <a:xfrm>
            <a:off x="7353360" y="418608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40" action="ppaction://hlinksldjump"/>
              </a:rPr>
              <a:t>28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>
            <a:hlinkClick r:id="rId41" action="ppaction://hlinksldjump"/>
          </p:cNvPr>
          <p:cNvSpPr/>
          <p:nvPr/>
        </p:nvSpPr>
        <p:spPr>
          <a:xfrm>
            <a:off x="6585120" y="418788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42" action="ppaction://hlinksldjump"/>
              </a:rPr>
              <a:t>29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>
            <a:hlinkClick r:id="rId43" action="ppaction://hlinksldjump"/>
          </p:cNvPr>
          <p:cNvSpPr/>
          <p:nvPr/>
        </p:nvSpPr>
        <p:spPr>
          <a:xfrm>
            <a:off x="5819760" y="418788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44" action="ppaction://hlinksldjump"/>
              </a:rPr>
              <a:t>3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>
            <a:hlinkClick r:id="rId45" action="ppaction://hlinksldjump"/>
          </p:cNvPr>
          <p:cNvSpPr/>
          <p:nvPr/>
        </p:nvSpPr>
        <p:spPr>
          <a:xfrm>
            <a:off x="5052960" y="418608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>
            <a:hlinkClick r:id="rId46" action="ppaction://hlinksldjump"/>
          </p:cNvPr>
          <p:cNvSpPr/>
          <p:nvPr/>
        </p:nvSpPr>
        <p:spPr>
          <a:xfrm>
            <a:off x="4286160" y="418788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>
            <a:hlinkClick r:id="rId47" action="ppaction://hlinksldjump"/>
          </p:cNvPr>
          <p:cNvSpPr/>
          <p:nvPr/>
        </p:nvSpPr>
        <p:spPr>
          <a:xfrm>
            <a:off x="3521160" y="423216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>
            <a:hlinkClick r:id="rId48" action="ppaction://hlinksldjump"/>
          </p:cNvPr>
          <p:cNvSpPr/>
          <p:nvPr/>
        </p:nvSpPr>
        <p:spPr>
          <a:xfrm>
            <a:off x="2727360" y="180036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49" action="ppaction://hlinksldjump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>
            <a:hlinkClick r:id="rId50" action="ppaction://hlinksldjump"/>
          </p:cNvPr>
          <p:cNvSpPr/>
          <p:nvPr/>
        </p:nvSpPr>
        <p:spPr>
          <a:xfrm>
            <a:off x="1960560" y="18018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>
            <a:hlinkClick r:id="rId51" action="ppaction://hlinksldjump"/>
          </p:cNvPr>
          <p:cNvSpPr/>
          <p:nvPr/>
        </p:nvSpPr>
        <p:spPr>
          <a:xfrm>
            <a:off x="1195560" y="1801800"/>
            <a:ext cx="642600" cy="642960"/>
          </a:xfrm>
          <a:custGeom>
            <a:avLst/>
            <a:gdLst>
              <a:gd name="textAreaLeft" fmla="*/ 23400 w 642600"/>
              <a:gd name="textAreaRight" fmla="*/ 619200 w 642600"/>
              <a:gd name="textAreaTop" fmla="*/ 23400 h 642960"/>
              <a:gd name="textAreaBottom" fmla="*/ 619560 h 642960"/>
            </a:gdLst>
            <a:ahLst/>
            <a:rect l="textAreaLeft" t="textAreaTop" r="textAreaRight" b="textAreaBottom"/>
            <a:pathLst>
              <a:path w="21600" h="21612">
                <a:moveTo>
                  <a:pt x="2700" y="0"/>
                </a:moveTo>
                <a:arcTo wR="2700" hR="2700" stAng="16200000" swAng="-5400000"/>
                <a:lnTo>
                  <a:pt x="0" y="18912"/>
                </a:lnTo>
                <a:arcTo wR="2700" hR="2700" stAng="10800000" swAng="-5400000"/>
                <a:lnTo>
                  <a:pt x="18900" y="21612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52" action="ppaction://hlinksldjump"/>
              </a:rPr>
              <a:t>9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>
            <a:hlinkClick r:id="rId53" action="ppaction://hlinksldjump"/>
          </p:cNvPr>
          <p:cNvSpPr/>
          <p:nvPr/>
        </p:nvSpPr>
        <p:spPr>
          <a:xfrm>
            <a:off x="2727360" y="2592360"/>
            <a:ext cx="644400" cy="6444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54" action="ppaction://hlinksldjump"/>
              </a:rPr>
              <a:t>1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>
            <a:hlinkClick r:id="rId55" action="ppaction://hlinksldjump"/>
          </p:cNvPr>
          <p:cNvSpPr/>
          <p:nvPr/>
        </p:nvSpPr>
        <p:spPr>
          <a:xfrm>
            <a:off x="1960560" y="25938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56" action="ppaction://hlinksldjump"/>
              </a:rPr>
              <a:t>1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>
            <a:hlinkClick r:id="rId57" action="ppaction://hlinksldjump"/>
          </p:cNvPr>
          <p:cNvSpPr/>
          <p:nvPr/>
        </p:nvSpPr>
        <p:spPr>
          <a:xfrm>
            <a:off x="1195560" y="2617920"/>
            <a:ext cx="642600" cy="642960"/>
          </a:xfrm>
          <a:custGeom>
            <a:avLst/>
            <a:gdLst>
              <a:gd name="textAreaLeft" fmla="*/ 23400 w 642600"/>
              <a:gd name="textAreaRight" fmla="*/ 619200 w 642600"/>
              <a:gd name="textAreaTop" fmla="*/ 23400 h 642960"/>
              <a:gd name="textAreaBottom" fmla="*/ 619560 h 642960"/>
            </a:gdLst>
            <a:ahLst/>
            <a:rect l="textAreaLeft" t="textAreaTop" r="textAreaRight" b="textAreaBottom"/>
            <a:pathLst>
              <a:path w="21600" h="21612">
                <a:moveTo>
                  <a:pt x="2700" y="0"/>
                </a:moveTo>
                <a:arcTo wR="2700" hR="2700" stAng="16200000" swAng="-5400000"/>
                <a:lnTo>
                  <a:pt x="0" y="18912"/>
                </a:lnTo>
                <a:arcTo wR="2700" hR="2700" stAng="10800000" swAng="-5400000"/>
                <a:lnTo>
                  <a:pt x="18900" y="21612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58" action="ppaction://hlinksldjump"/>
              </a:rPr>
              <a:t>18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>
            <a:hlinkClick r:id="rId59" action="ppaction://hlinksldjump"/>
          </p:cNvPr>
          <p:cNvSpPr/>
          <p:nvPr/>
        </p:nvSpPr>
        <p:spPr>
          <a:xfrm>
            <a:off x="2727360" y="339408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60" action="ppaction://hlinksldjump"/>
              </a:rPr>
              <a:t>2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>
            <a:hlinkClick r:id="rId61" action="ppaction://hlinksldjump"/>
          </p:cNvPr>
          <p:cNvSpPr/>
          <p:nvPr/>
        </p:nvSpPr>
        <p:spPr>
          <a:xfrm>
            <a:off x="1960560" y="3394080"/>
            <a:ext cx="642960" cy="644400"/>
          </a:xfrm>
          <a:custGeom>
            <a:avLst/>
            <a:gdLst>
              <a:gd name="textAreaLeft" fmla="*/ 23400 w 642960"/>
              <a:gd name="textAreaRight" fmla="*/ 619560 w 64296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48">
                <a:moveTo>
                  <a:pt x="2700" y="0"/>
                </a:moveTo>
                <a:arcTo wR="2700" hR="2700" stAng="16200000" swAng="-5400000"/>
                <a:lnTo>
                  <a:pt x="0" y="18948"/>
                </a:lnTo>
                <a:arcTo wR="2700" hR="2700" stAng="10800000" swAng="-5400000"/>
                <a:lnTo>
                  <a:pt x="18900" y="21648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62" action="ppaction://hlinksldjump"/>
              </a:rPr>
              <a:t>2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>
            <a:hlinkClick r:id="rId63" action="ppaction://hlinksldjump"/>
          </p:cNvPr>
          <p:cNvSpPr/>
          <p:nvPr/>
        </p:nvSpPr>
        <p:spPr>
          <a:xfrm>
            <a:off x="1195560" y="3394080"/>
            <a:ext cx="642600" cy="644400"/>
          </a:xfrm>
          <a:custGeom>
            <a:avLst/>
            <a:gdLst>
              <a:gd name="textAreaLeft" fmla="*/ 23400 w 642600"/>
              <a:gd name="textAreaRight" fmla="*/ 619200 w 64260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60">
                <a:moveTo>
                  <a:pt x="2700" y="0"/>
                </a:moveTo>
                <a:arcTo wR="2700" hR="2700" stAng="16200000" swAng="-5400000"/>
                <a:lnTo>
                  <a:pt x="0" y="18960"/>
                </a:lnTo>
                <a:arcTo wR="2700" hR="2700" stAng="10800000" swAng="-5400000"/>
                <a:lnTo>
                  <a:pt x="18900" y="21660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64" action="ppaction://hlinksldjump"/>
              </a:rPr>
              <a:t>2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>
            <a:hlinkClick r:id="rId65" action="ppaction://hlinksldjump"/>
          </p:cNvPr>
          <p:cNvSpPr/>
          <p:nvPr/>
        </p:nvSpPr>
        <p:spPr>
          <a:xfrm>
            <a:off x="2727360" y="418608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>
            <a:hlinkClick r:id="rId66" action="ppaction://hlinksldjump"/>
          </p:cNvPr>
          <p:cNvSpPr/>
          <p:nvPr/>
        </p:nvSpPr>
        <p:spPr>
          <a:xfrm>
            <a:off x="1960560" y="418788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>
            <a:hlinkClick r:id="rId67" action="ppaction://hlinksldjump"/>
          </p:cNvPr>
          <p:cNvSpPr/>
          <p:nvPr/>
        </p:nvSpPr>
        <p:spPr>
          <a:xfrm>
            <a:off x="1195560" y="4187880"/>
            <a:ext cx="642600" cy="642960"/>
          </a:xfrm>
          <a:custGeom>
            <a:avLst/>
            <a:gdLst>
              <a:gd name="textAreaLeft" fmla="*/ 23400 w 642600"/>
              <a:gd name="textAreaRight" fmla="*/ 619200 w 642600"/>
              <a:gd name="textAreaTop" fmla="*/ 23400 h 642960"/>
              <a:gd name="textAreaBottom" fmla="*/ 619560 h 642960"/>
            </a:gdLst>
            <a:ahLst/>
            <a:rect l="textAreaLeft" t="textAreaTop" r="textAreaRight" b="textAreaBottom"/>
            <a:pathLst>
              <a:path w="21600" h="21612">
                <a:moveTo>
                  <a:pt x="2700" y="0"/>
                </a:moveTo>
                <a:arcTo wR="2700" hR="2700" stAng="16200000" swAng="-5400000"/>
                <a:lnTo>
                  <a:pt x="0" y="18912"/>
                </a:lnTo>
                <a:arcTo wR="2700" hR="2700" stAng="10800000" swAng="-5400000"/>
                <a:lnTo>
                  <a:pt x="18900" y="21612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>
            <a:hlinkClick r:id="rId68" action="ppaction://hlinksldjump"/>
          </p:cNvPr>
          <p:cNvSpPr/>
          <p:nvPr/>
        </p:nvSpPr>
        <p:spPr>
          <a:xfrm>
            <a:off x="7353360" y="49482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>
            <a:hlinkClick r:id="rId69" action="ppaction://hlinksldjump"/>
          </p:cNvPr>
          <p:cNvSpPr/>
          <p:nvPr/>
        </p:nvSpPr>
        <p:spPr>
          <a:xfrm>
            <a:off x="6585120" y="4948200"/>
            <a:ext cx="644400" cy="6444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8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>
            <a:hlinkClick r:id="rId70" action="ppaction://hlinksldjump"/>
          </p:cNvPr>
          <p:cNvSpPr/>
          <p:nvPr/>
        </p:nvSpPr>
        <p:spPr>
          <a:xfrm>
            <a:off x="5819760" y="4948200"/>
            <a:ext cx="644400" cy="6444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9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>
            <a:hlinkClick r:id="rId71" action="ppaction://hlinksldjump"/>
          </p:cNvPr>
          <p:cNvSpPr/>
          <p:nvPr/>
        </p:nvSpPr>
        <p:spPr>
          <a:xfrm>
            <a:off x="5052960" y="494820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>
            <a:hlinkClick r:id="rId72" action="ppaction://hlinksldjump"/>
          </p:cNvPr>
          <p:cNvSpPr/>
          <p:nvPr/>
        </p:nvSpPr>
        <p:spPr>
          <a:xfrm>
            <a:off x="4286160" y="4948200"/>
            <a:ext cx="642960" cy="644400"/>
          </a:xfrm>
          <a:custGeom>
            <a:avLst/>
            <a:gdLst>
              <a:gd name="textAreaLeft" fmla="*/ 23400 w 642960"/>
              <a:gd name="textAreaRight" fmla="*/ 619560 w 64296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48">
                <a:moveTo>
                  <a:pt x="2700" y="0"/>
                </a:moveTo>
                <a:arcTo wR="2700" hR="2700" stAng="16200000" swAng="-5400000"/>
                <a:lnTo>
                  <a:pt x="0" y="18948"/>
                </a:lnTo>
                <a:arcTo wR="2700" hR="2700" stAng="10800000" swAng="-5400000"/>
                <a:lnTo>
                  <a:pt x="18900" y="21648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>
            <a:hlinkClick r:id="rId73" action="ppaction://hlinksldjump"/>
          </p:cNvPr>
          <p:cNvSpPr/>
          <p:nvPr/>
        </p:nvSpPr>
        <p:spPr>
          <a:xfrm>
            <a:off x="3521160" y="4948200"/>
            <a:ext cx="642960" cy="644400"/>
          </a:xfrm>
          <a:custGeom>
            <a:avLst/>
            <a:gdLst>
              <a:gd name="textAreaLeft" fmla="*/ 23400 w 642960"/>
              <a:gd name="textAreaRight" fmla="*/ 619560 w 64296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48">
                <a:moveTo>
                  <a:pt x="2700" y="0"/>
                </a:moveTo>
                <a:arcTo wR="2700" hR="2700" stAng="16200000" swAng="-5400000"/>
                <a:lnTo>
                  <a:pt x="0" y="18948"/>
                </a:lnTo>
                <a:arcTo wR="2700" hR="2700" stAng="10800000" swAng="-5400000"/>
                <a:lnTo>
                  <a:pt x="18900" y="21648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>
            <a:hlinkClick r:id="rId74" action="ppaction://hlinksldjump"/>
          </p:cNvPr>
          <p:cNvSpPr/>
          <p:nvPr/>
        </p:nvSpPr>
        <p:spPr>
          <a:xfrm>
            <a:off x="7353360" y="5740560"/>
            <a:ext cx="642960" cy="6426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>
            <a:hlinkClick r:id="rId75" action="ppaction://hlinksldjump"/>
          </p:cNvPr>
          <p:cNvSpPr/>
          <p:nvPr/>
        </p:nvSpPr>
        <p:spPr>
          <a:xfrm>
            <a:off x="6585120" y="574200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>
            <a:hlinkClick r:id="rId76" action="ppaction://hlinksldjump"/>
          </p:cNvPr>
          <p:cNvSpPr/>
          <p:nvPr/>
        </p:nvSpPr>
        <p:spPr>
          <a:xfrm>
            <a:off x="5819760" y="574200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8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>
            <a:hlinkClick r:id="rId77" action="ppaction://hlinksldjump"/>
          </p:cNvPr>
          <p:cNvSpPr/>
          <p:nvPr/>
        </p:nvSpPr>
        <p:spPr>
          <a:xfrm>
            <a:off x="5052960" y="5740560"/>
            <a:ext cx="644400" cy="6426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9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>
            <a:hlinkClick r:id="rId78" action="ppaction://hlinksldjump"/>
          </p:cNvPr>
          <p:cNvSpPr/>
          <p:nvPr/>
        </p:nvSpPr>
        <p:spPr>
          <a:xfrm>
            <a:off x="4286160" y="57420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>
            <a:hlinkClick r:id="rId79" action="ppaction://hlinksldjump"/>
          </p:cNvPr>
          <p:cNvSpPr/>
          <p:nvPr/>
        </p:nvSpPr>
        <p:spPr>
          <a:xfrm>
            <a:off x="3521160" y="57420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5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>
            <a:hlinkClick r:id="rId80" action="ppaction://hlinksldjump"/>
          </p:cNvPr>
          <p:cNvSpPr/>
          <p:nvPr/>
        </p:nvSpPr>
        <p:spPr>
          <a:xfrm>
            <a:off x="2727360" y="494820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>
            <a:hlinkClick r:id="rId81" action="ppaction://hlinksldjump"/>
          </p:cNvPr>
          <p:cNvSpPr/>
          <p:nvPr/>
        </p:nvSpPr>
        <p:spPr>
          <a:xfrm>
            <a:off x="1960560" y="4948200"/>
            <a:ext cx="642960" cy="644400"/>
          </a:xfrm>
          <a:custGeom>
            <a:avLst/>
            <a:gdLst>
              <a:gd name="textAreaLeft" fmla="*/ 23400 w 642960"/>
              <a:gd name="textAreaRight" fmla="*/ 619560 w 64296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48">
                <a:moveTo>
                  <a:pt x="2700" y="0"/>
                </a:moveTo>
                <a:arcTo wR="2700" hR="2700" stAng="16200000" swAng="-5400000"/>
                <a:lnTo>
                  <a:pt x="0" y="18948"/>
                </a:lnTo>
                <a:arcTo wR="2700" hR="2700" stAng="10800000" swAng="-5400000"/>
                <a:lnTo>
                  <a:pt x="18900" y="21648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>
            <a:hlinkClick r:id="rId82" action="ppaction://hlinksldjump"/>
          </p:cNvPr>
          <p:cNvSpPr/>
          <p:nvPr/>
        </p:nvSpPr>
        <p:spPr>
          <a:xfrm>
            <a:off x="1195560" y="4948200"/>
            <a:ext cx="642600" cy="644400"/>
          </a:xfrm>
          <a:custGeom>
            <a:avLst/>
            <a:gdLst>
              <a:gd name="textAreaLeft" fmla="*/ 23400 w 642600"/>
              <a:gd name="textAreaRight" fmla="*/ 619200 w 64260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60">
                <a:moveTo>
                  <a:pt x="2700" y="0"/>
                </a:moveTo>
                <a:arcTo wR="2700" hR="2700" stAng="16200000" swAng="-5400000"/>
                <a:lnTo>
                  <a:pt x="0" y="18960"/>
                </a:lnTo>
                <a:arcTo wR="2700" hR="2700" stAng="10800000" swAng="-5400000"/>
                <a:lnTo>
                  <a:pt x="18900" y="21660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>
            <a:hlinkClick r:id="rId83" action="ppaction://hlinksldjump"/>
          </p:cNvPr>
          <p:cNvSpPr/>
          <p:nvPr/>
        </p:nvSpPr>
        <p:spPr>
          <a:xfrm>
            <a:off x="2727360" y="5740560"/>
            <a:ext cx="644400" cy="6426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5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>
            <a:hlinkClick r:id="rId84" action="ppaction://hlinksldjump"/>
          </p:cNvPr>
          <p:cNvSpPr/>
          <p:nvPr/>
        </p:nvSpPr>
        <p:spPr>
          <a:xfrm>
            <a:off x="1960560" y="57420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5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>
            <a:hlinkClick r:id="rId85" action="ppaction://hlinksldjump"/>
          </p:cNvPr>
          <p:cNvSpPr/>
          <p:nvPr/>
        </p:nvSpPr>
        <p:spPr>
          <a:xfrm>
            <a:off x="1195560" y="5742000"/>
            <a:ext cx="642600" cy="642960"/>
          </a:xfrm>
          <a:custGeom>
            <a:avLst/>
            <a:gdLst>
              <a:gd name="textAreaLeft" fmla="*/ 23400 w 642600"/>
              <a:gd name="textAreaRight" fmla="*/ 619200 w 642600"/>
              <a:gd name="textAreaTop" fmla="*/ 23400 h 642960"/>
              <a:gd name="textAreaBottom" fmla="*/ 619560 h 642960"/>
            </a:gdLst>
            <a:ahLst/>
            <a:rect l="textAreaLeft" t="textAreaTop" r="textAreaRight" b="textAreaBottom"/>
            <a:pathLst>
              <a:path w="21600" h="21612">
                <a:moveTo>
                  <a:pt x="2700" y="0"/>
                </a:moveTo>
                <a:arcTo wR="2700" hR="2700" stAng="16200000" swAng="-5400000"/>
                <a:lnTo>
                  <a:pt x="0" y="18912"/>
                </a:lnTo>
                <a:arcTo wR="2700" hR="2700" stAng="10800000" swAng="-5400000"/>
                <a:lnTo>
                  <a:pt x="18900" y="21612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5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664080" y="415800"/>
            <a:ext cx="180180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000000"/>
                  </a:outerShdw>
                </a:effectLst>
                <a:latin typeface="DecoType Thuluth"/>
              </a:rPr>
              <a:t>القائمة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000000"/>
                </a:outerShdw>
              </a:effectLst>
              <a:latin typeface="DecoType Thuluth"/>
              <a:ea typeface="DecoType Thuluth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9800" y="2244600"/>
            <a:ext cx="75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هو القاتل الذي لا يعاقبه القانون؟-غير قاتل نفسه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قاتل الوق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55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ة واحد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هم أول من جاء بالمصافحة؟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هل اليمن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60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 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أول من سن الركعتين عند القتل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 هو خبيب بن عدي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65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726680" y="619776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لقبه النبي صلى الله عليه وسلم بالشهيد الحي 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43520" y="6051600"/>
            <a:ext cx="38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طلحة بن عبيد الله رضي الله عن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71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49480" y="211788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:سورة خاصمت عن صاحبها حتى غفر له؟  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تبار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7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ة واحد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ن هم أولو العزم من الرسل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327400" y="6203880"/>
            <a:ext cx="663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 محمد-نوح-إبراهيم-موسى-عيسى عليهم السلام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81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ة واحد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9920" y="2244600"/>
            <a:ext cx="72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اذا يعني اسم حاتم؟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73440" y="6203880"/>
            <a:ext cx="52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حاكم الذي يحكم بالشيء ويقضي في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8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0280" y="2244600"/>
            <a:ext cx="80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صحابي اصله عربي سبته الروم وهو صغير من هو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صهيب الرومي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91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4640" y="2244600"/>
            <a:ext cx="79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ما أقوى وأقسى أنواع الحجاره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ألماس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9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ا هى  النقيعة؟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91240" y="6026040"/>
            <a:ext cx="38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طعام القادم من السفر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01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87400" y="2244600"/>
            <a:ext cx="743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تى حولت القبلة من بيت المقدس الى الكعبة 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78160" y="6203880"/>
            <a:ext cx="658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Tahoma"/>
              </a:rPr>
              <a:t>الجواب: في شعبان من السنة الثانية للهجرة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27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منهو الأخفش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13200" y="6203880"/>
            <a:ext cx="59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صغير العينيين أومن لا يرى  بوضو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0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739800" y="2774880"/>
            <a:ext cx="7662960" cy="235584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rId2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22194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ن هو الصحابي الذي  سماه  الرسول صلى الله عليه وسلم سفينة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مهران بن فروخ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14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ا معنى غرابيب سود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21360" y="6203880"/>
            <a:ext cx="38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شديدة السواد كا لأ غرب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19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مؤلف الملل والنحل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 الشهر ستاني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24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أول من اكتشف الدورة الدموية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03880" y="6156360"/>
            <a:ext cx="384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Tahoma"/>
              </a:rPr>
              <a:t>الجواب:ابن النفيس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29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6720" y="2244600"/>
            <a:ext cx="76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ا عدد فقرات العمود الفقري في الإنسان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21360" y="6203880"/>
            <a:ext cx="38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Tahoma"/>
              </a:rPr>
              <a:t>الجواب:</a:t>
            </a:r>
            <a:r>
              <a:rPr b="0" lang="ar-SA" sz="3200" spc="-1" strike="noStrike">
                <a:solidFill>
                  <a:srgbClr val="ff3300"/>
                </a:solidFill>
                <a:latin typeface="Tahoma"/>
              </a:rPr>
              <a:t>33</a:t>
            </a:r>
            <a:r>
              <a:rPr b="0" lang="ar-SA" sz="3200" spc="-1" strike="noStrike">
                <a:solidFill>
                  <a:srgbClr val="ff3300"/>
                </a:solidFill>
                <a:latin typeface="Tahoma"/>
              </a:rPr>
              <a:t>فقرة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34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ة واحد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2244600"/>
            <a:ext cx="83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ذبحة رهيبةارتكبهاالصهاينة في إحدى القرى الفلسطينية عام 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ea typeface="Traditional Arabic"/>
              </a:rPr>
              <a:t>1948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21360" y="6203880"/>
            <a:ext cx="38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3300"/>
                </a:solidFill>
                <a:latin typeface="Tahoma"/>
              </a:rPr>
              <a:t>الجواب:مذبحة دير ياسي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39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92280" y="2244600"/>
            <a:ext cx="762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المادة التي تفوق السكر في حلاوتهاب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ea typeface="Traditional Arabic"/>
              </a:rPr>
              <a:t>300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ضعف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21360" y="6203880"/>
            <a:ext cx="38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3300"/>
                </a:solidFill>
                <a:latin typeface="Tahoma"/>
              </a:rPr>
              <a:t>الجواب:السكاري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44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أربع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66960" y="2244600"/>
            <a:ext cx="735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ا الكلمة العربية التي تقابل بيجامة الأجنبية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56000" y="6203880"/>
            <a:ext cx="64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منامة وهو ثوب تلبسة العرب وقت النوم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49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4200" y="2244600"/>
            <a:ext cx="783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من اليهودية التي حاولت قتل النبي صلى الله عليه وسلم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21360" y="6203880"/>
            <a:ext cx="38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هي زينب بنت الحارث</a:t>
            </a: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281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92280" y="2244600"/>
            <a:ext cx="762768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القائل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ahoma"/>
                <a:cs typeface="Traditional Arabic"/>
              </a:rPr>
              <a:t>لكل شئ إذا ماتم نقصان***فلا يغر بطيب العيش إنسان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21360" y="6203880"/>
            <a:ext cx="384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Tahoma"/>
              </a:rPr>
              <a:t>الجواب:أبو البقاء الرند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54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عشر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016600" y="693720"/>
            <a:ext cx="23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1600" spc="-1" strike="noStrike">
                <a:solidFill>
                  <a:srgbClr val="40458c"/>
                </a:solidFill>
                <a:latin typeface="Tahoma"/>
              </a:rPr>
              <a:t>أو اختيارات ثمان درجات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الأسباط وردت في القران مامعناها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90840" y="6203880"/>
            <a:ext cx="737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هم بنو يعقوب عليه السلام-</a:t>
            </a: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12</a:t>
            </a: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رجلاولدلكل منهم أمة من الناس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60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مؤلف حصوننا مهددة من داخلها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محمد محمد حسين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65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ا هي الغديرة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21360" y="6203880"/>
            <a:ext cx="38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Tahoma"/>
              </a:rPr>
              <a:t>الجواب:طعام الختان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70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أربع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01920" y="2244600"/>
            <a:ext cx="71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ا أطول كلمه في القرآن؟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فأسقيناكمو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75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ة واحد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1755720" y="1590840"/>
            <a:ext cx="6365880" cy="26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Simple Bold Jut Out"/>
              </a:rPr>
              <a:t>احصل على مجلة البيان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Simple Bold Jut Out"/>
              <a:ea typeface="Simple Bold Jut Out"/>
            </a:endParaRPr>
          </a:p>
        </p:txBody>
      </p:sp>
      <p:sp>
        <p:nvSpPr>
          <p:cNvPr id="47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341360" y="5327640"/>
            <a:ext cx="257040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</p:spTree>
  </p:cSld>
  <p:transition spd="slow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87400" y="2244600"/>
            <a:ext cx="743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قصر الحمراء أين يقع ؟ولم سمي بذلك؟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30240" y="6203880"/>
            <a:ext cx="803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 غر ناطة  - نسبة  إلى مؤسسة دولة بني الأحمر في الأندلس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83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2041560"/>
            <a:ext cx="877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الذي قال عنة الرسول صلى الله علية وسلم (ويل أمه مسعر حرب لو كان معه رجال)؟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514520" y="6203880"/>
            <a:ext cx="74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 أبو بصير عتبة بن  أسيد  رضي الله عن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88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ست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ا هو مقياس سرعة السفن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 العقد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93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739800" y="3192480"/>
            <a:ext cx="7662960" cy="2355840"/>
          </a:xfrm>
          <a:prstGeom prst="rect">
            <a:avLst/>
          </a:prstGeom>
          <a:ln w="0">
            <a:noFill/>
          </a:ln>
        </p:spPr>
      </p:pic>
      <p:sp>
        <p:nvSpPr>
          <p:cNvPr id="495" name="">
            <a:hlinkClick r:id="rId2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ا أهم الكائنات في البحر الميت 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62640" y="6203880"/>
            <a:ext cx="439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بحر الميت يخلو من الكائنات الحي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28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 درجة واحد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61960" y="2244600"/>
            <a:ext cx="77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: ماذا يسمى الشاعر الذي عاصر الجاهلية والإسلام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مخضرم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501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كم عدد اسنان الإنسان العادي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</a:t>
            </a: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3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50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أربع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49480" y="2244600"/>
            <a:ext cx="71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اذيطلق على صوت الشاة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ثغاء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511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هو القائد العربي الذي فتح الصين؟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قتيبة بن مسلم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51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سبع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اذا يطلق على بيت الدجاج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قن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522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50800" y="2219400"/>
            <a:ext cx="681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؟منهو الملك الإنجليزي الذي لقب بقلب الأسد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ريتشاردالأو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527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968400" y="1762200"/>
            <a:ext cx="7615080" cy="2038320"/>
          </a:xfrm>
          <a:prstGeom prst="rect">
            <a:avLst/>
          </a:prstGeom>
          <a:ln w="0">
            <a:noFill/>
          </a:ln>
        </p:spPr>
      </p:pic>
      <p:sp>
        <p:nvSpPr>
          <p:cNvPr id="529" name="">
            <a:hlinkClick r:id="rId2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0200" y="2244600"/>
            <a:ext cx="78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.ما هى شبه جزيرة في شبه جزيرة بجوارها جزر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قطر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291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لماذا ينعت خط استواء بهذا النعت 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31760" y="620388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لأن الليل والنهار يستويان عند هذا الخط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29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ست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587600" y="3917880"/>
            <a:ext cx="5537160" cy="16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L-Hotham"/>
              </a:rPr>
              <a:t>ونشيد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L-Hotham"/>
              <a:ea typeface="AL-Hotham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901880" y="1454040"/>
            <a:ext cx="6559560" cy="19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37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ecoType Naskh"/>
              </a:rPr>
              <a:t>قص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ecoType Naskh"/>
              <a:ea typeface="DecoType Naskh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ا أسم كل من :غسيل الملائكة –شيخ الإسلام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22480" y="6203880"/>
            <a:ext cx="69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حنظلة بن أبى عامر-أحمد بن تيمي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04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07:21:47Z</dcterms:created>
  <dc:creator>PERSONAL COPY</dc:creator>
  <dc:description/>
  <dc:language>en-US</dc:language>
  <cp:lastModifiedBy>mohmed</cp:lastModifiedBy>
  <dcterms:modified xsi:type="dcterms:W3CDTF">2002-03-09T19:32:34Z</dcterms:modified>
  <cp:revision>102</cp:revision>
  <dc:subject/>
  <dc:title>PowerPoint Presentation</dc:title>
</cp:coreProperties>
</file>